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21960"/>
            <a:ext cx="3041640" cy="461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978000" y="21960"/>
            <a:ext cx="3041640" cy="461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14280" y="72036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4560" y="4403520"/>
            <a:ext cx="514980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783280"/>
            <a:ext cx="3041640" cy="461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978000" y="8783280"/>
            <a:ext cx="3041640" cy="461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481A20-161F-48F8-932E-A8338B40A9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14280" y="72072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34560" y="4403520"/>
            <a:ext cx="514980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14280" y="72072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34560" y="4403520"/>
            <a:ext cx="514980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as developed a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all components working together, over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could be any size, any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doesn’t download a website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14280" y="72072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34560" y="4403520"/>
            <a:ext cx="514980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 users, storage servers repositories,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88E2-7DB8-415C-8E22-612A1F56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8351-BF59-4D19-8E5F-791E1925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32DA-7A72-4D68-A5CB-78CFC626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51C4-EE40-48DF-880C-E412FE11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F511-3F48-4511-9773-9188B90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9C26-64BF-430C-BA2A-DC9BE4A5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2493-2A62-4694-B668-2E609CD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58A4-D03A-4599-A043-750A68F8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1FDE-9763-46C6-BD97-77C51913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3CF0-02AF-461E-ACBF-54F26F0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6EAC-20A8-4C62-99DB-704226E3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50D5-C154-4504-BAE9-5ADF0B2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241200"/>
            <a:ext cx="8813520" cy="6299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9900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99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71680" y="5932440"/>
            <a:ext cx="2085120" cy="561960"/>
            <a:chOff x="6871680" y="5932440"/>
            <a:chExt cx="2085120" cy="561960"/>
          </a:xfrm>
        </p:grpSpPr>
        <p:sp>
          <p:nvSpPr>
            <p:cNvPr id="4" name=""/>
            <p:cNvSpPr/>
            <p:nvPr/>
          </p:nvSpPr>
          <p:spPr>
            <a:xfrm>
              <a:off x="6871680" y="6085080"/>
              <a:ext cx="1587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rporation For Na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search Initia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cnrilogo" descr=""/>
            <p:cNvPicPr/>
            <p:nvPr/>
          </p:nvPicPr>
          <p:blipFill>
            <a:blip r:embed="rId2"/>
            <a:stretch/>
          </p:blipFill>
          <p:spPr>
            <a:xfrm>
              <a:off x="8394840" y="5932440"/>
              <a:ext cx="56196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781680" y="652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50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9B5A-EF6E-4B32-A665-28BE7A0236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124080" y="6505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7386480" y="368280"/>
            <a:ext cx="1462320" cy="981000"/>
          </a:xfrm>
          <a:prstGeom prst="rect">
            <a:avLst/>
          </a:prstGeom>
          <a:ln w="0">
            <a:noFill/>
          </a:ln>
        </p:spPr>
      </p:pic>
      <p:grpSp>
        <p:nvGrpSpPr>
          <p:cNvPr id="10" name=""/>
          <p:cNvGrpSpPr/>
          <p:nvPr/>
        </p:nvGrpSpPr>
        <p:grpSpPr>
          <a:xfrm>
            <a:off x="228600" y="1447920"/>
            <a:ext cx="8686800" cy="203040"/>
            <a:chOff x="228600" y="1447920"/>
            <a:chExt cx="8686800" cy="203040"/>
          </a:xfrm>
        </p:grpSpPr>
        <p:sp>
          <p:nvSpPr>
            <p:cNvPr id="11" name=""/>
            <p:cNvSpPr/>
            <p:nvPr/>
          </p:nvSpPr>
          <p:spPr>
            <a:xfrm>
              <a:off x="228600" y="1547640"/>
              <a:ext cx="8458200" cy="103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57200" y="1447920"/>
              <a:ext cx="8458200" cy="1029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5240" y="241200"/>
            <a:ext cx="8813520" cy="6299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63680" y="5973840"/>
            <a:ext cx="158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poration For 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search Initiat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nrilogo" descr=""/>
          <p:cNvPicPr/>
          <p:nvPr/>
        </p:nvPicPr>
        <p:blipFill>
          <a:blip r:embed="rId2"/>
          <a:stretch/>
        </p:blipFill>
        <p:spPr>
          <a:xfrm>
            <a:off x="8286840" y="58212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0000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5.png"/><Relationship Id="rId42" Type="http://schemas.openxmlformats.org/officeDocument/2006/relationships/image" Target="../media/image6.png"/><Relationship Id="rId43" Type="http://schemas.openxmlformats.org/officeDocument/2006/relationships/slideLayout" Target="../slideLayouts/slideLayout3.xml"/><Relationship Id="rId4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GIC Projec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Demonstration and Brief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400440" y="50292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a Ric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 July 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533520"/>
            <a:ext cx="2101680" cy="1409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040" y="552600"/>
            <a:ext cx="2768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406440" y="1714680"/>
            <a:ext cx="3930480" cy="3214440"/>
            <a:chOff x="406440" y="1714680"/>
            <a:chExt cx="3930480" cy="3214440"/>
          </a:xfrm>
        </p:grpSpPr>
        <p:pic>
          <p:nvPicPr>
            <p:cNvPr id="442" name="tiles" descr=""/>
            <p:cNvPicPr/>
            <p:nvPr/>
          </p:nvPicPr>
          <p:blipFill>
            <a:blip r:embed="rId1"/>
            <a:stretch/>
          </p:blipFill>
          <p:spPr>
            <a:xfrm>
              <a:off x="406440" y="1714680"/>
              <a:ext cx="3930480" cy="3214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3" name=""/>
            <p:cNvSpPr/>
            <p:nvPr/>
          </p:nvSpPr>
          <p:spPr>
            <a:xfrm>
              <a:off x="1919520" y="29088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98880" y="2756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78240" y="2642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19440" y="25279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14600" y="30229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22560" y="304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94040" y="29977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79840" y="24768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33640" y="2375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7480" y="2921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1280" y="27943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60640" y="2680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24160" y="2858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03520" y="2743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95480" y="2603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49640" y="2502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3440" y="24134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13080" y="25786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02000" y="2337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5240" y="2426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46440" y="5924520"/>
            <a:ext cx="36360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938840" y="4877280"/>
            <a:ext cx="2565360" cy="1161720"/>
            <a:chOff x="4938840" y="4877280"/>
            <a:chExt cx="2565360" cy="1161720"/>
          </a:xfrm>
        </p:grpSpPr>
        <p:grpSp>
          <p:nvGrpSpPr>
            <p:cNvPr id="466" name=""/>
            <p:cNvGrpSpPr/>
            <p:nvPr/>
          </p:nvGrpSpPr>
          <p:grpSpPr>
            <a:xfrm>
              <a:off x="4938840" y="5187960"/>
              <a:ext cx="2565360" cy="851040"/>
              <a:chOff x="4938840" y="5187960"/>
              <a:chExt cx="2565360" cy="851040"/>
            </a:xfrm>
          </p:grpSpPr>
          <p:sp>
            <p:nvSpPr>
              <p:cNvPr id="467" name=""/>
              <p:cNvSpPr/>
              <p:nvPr/>
            </p:nvSpPr>
            <p:spPr>
              <a:xfrm>
                <a:off x="5226120" y="5424480"/>
                <a:ext cx="914400" cy="5302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38840" y="5225400"/>
                <a:ext cx="54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3120" y="5225400"/>
                <a:ext cx="54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10160" y="5424480"/>
                <a:ext cx="914400" cy="5302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10160" y="565884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42040" y="566172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38840" y="5187960"/>
                <a:ext cx="2565360" cy="851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94480" y="552204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97800" y="565884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411960" y="48772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80880" y="4356000"/>
            <a:ext cx="4141800" cy="10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erv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995480" y="6037200"/>
            <a:ext cx="1509840" cy="162000"/>
            <a:chOff x="1995480" y="6037200"/>
            <a:chExt cx="1509840" cy="162000"/>
          </a:xfrm>
        </p:grpSpPr>
        <p:sp>
          <p:nvSpPr>
            <p:cNvPr id="479" name=""/>
            <p:cNvSpPr/>
            <p:nvPr/>
          </p:nvSpPr>
          <p:spPr>
            <a:xfrm>
              <a:off x="1995480" y="6037200"/>
              <a:ext cx="0" cy="16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5480" y="6199200"/>
              <a:ext cx="15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89320" y="4877280"/>
            <a:ext cx="2660400" cy="1159920"/>
            <a:chOff x="589320" y="4877280"/>
            <a:chExt cx="2660400" cy="1159920"/>
          </a:xfrm>
        </p:grpSpPr>
        <p:grpSp>
          <p:nvGrpSpPr>
            <p:cNvPr id="482" name=""/>
            <p:cNvGrpSpPr/>
            <p:nvPr/>
          </p:nvGrpSpPr>
          <p:grpSpPr>
            <a:xfrm>
              <a:off x="684360" y="5186520"/>
              <a:ext cx="2565360" cy="850680"/>
              <a:chOff x="684360" y="5186520"/>
              <a:chExt cx="2565360" cy="85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971640" y="5423040"/>
                <a:ext cx="91440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4360" y="5223600"/>
                <a:ext cx="54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98640" y="5223600"/>
                <a:ext cx="54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155680" y="5423040"/>
                <a:ext cx="914400" cy="5299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717640" y="567756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11160" y="550296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3600" y="5539680"/>
                <a:ext cx="352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4360" y="5186520"/>
                <a:ext cx="2565360" cy="85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589320" y="48772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452760" y="4492080"/>
            <a:ext cx="1529280" cy="1917720"/>
            <a:chOff x="3452760" y="4492080"/>
            <a:chExt cx="1529280" cy="1917720"/>
          </a:xfrm>
        </p:grpSpPr>
        <p:sp>
          <p:nvSpPr>
            <p:cNvPr id="493" name=""/>
            <p:cNvSpPr/>
            <p:nvPr/>
          </p:nvSpPr>
          <p:spPr>
            <a:xfrm>
              <a:off x="3452760" y="5540400"/>
              <a:ext cx="1306440" cy="869400"/>
            </a:xfrm>
            <a:prstGeom prst="cloudCallout">
              <a:avLst>
                <a:gd name="adj1" fmla="val 38819"/>
                <a:gd name="adj2" fmla="val -12335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500600">
              <a:off x="4140000" y="4589640"/>
              <a:ext cx="672840" cy="9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508560" y="5758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573080" y="6049800"/>
            <a:ext cx="1699200" cy="162000"/>
            <a:chOff x="4573080" y="6049800"/>
            <a:chExt cx="1699200" cy="162000"/>
          </a:xfrm>
        </p:grpSpPr>
        <p:sp>
          <p:nvSpPr>
            <p:cNvPr id="497" name=""/>
            <p:cNvSpPr/>
            <p:nvPr/>
          </p:nvSpPr>
          <p:spPr>
            <a:xfrm>
              <a:off x="6272280" y="6049800"/>
              <a:ext cx="0" cy="16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573080" y="6211800"/>
              <a:ext cx="169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929040" y="4515480"/>
            <a:ext cx="676440" cy="883080"/>
            <a:chOff x="3929040" y="4515480"/>
            <a:chExt cx="676440" cy="883080"/>
          </a:xfrm>
        </p:grpSpPr>
        <p:grpSp>
          <p:nvGrpSpPr>
            <p:cNvPr id="500" name=""/>
            <p:cNvGrpSpPr/>
            <p:nvPr/>
          </p:nvGrpSpPr>
          <p:grpSpPr>
            <a:xfrm>
              <a:off x="3929040" y="4743000"/>
              <a:ext cx="676440" cy="655560"/>
              <a:chOff x="3929040" y="4743000"/>
              <a:chExt cx="676440" cy="655560"/>
            </a:xfrm>
          </p:grpSpPr>
          <p:sp>
            <p:nvSpPr>
              <p:cNvPr id="501" name=""/>
              <p:cNvSpPr/>
              <p:nvPr/>
            </p:nvSpPr>
            <p:spPr>
              <a:xfrm>
                <a:off x="3929040" y="4743000"/>
                <a:ext cx="672480" cy="655560"/>
              </a:xfrm>
              <a:custGeom>
                <a:avLst/>
                <a:gdLst/>
                <a:ahLst/>
                <a:rect l="l" t="t" r="r" b="b"/>
                <a:pathLst>
                  <a:path w="436" h="424">
                    <a:moveTo>
                      <a:pt x="0" y="323"/>
                    </a:moveTo>
                    <a:lnTo>
                      <a:pt x="79" y="323"/>
                    </a:lnTo>
                    <a:lnTo>
                      <a:pt x="149" y="340"/>
                    </a:lnTo>
                    <a:lnTo>
                      <a:pt x="149" y="348"/>
                    </a:lnTo>
                    <a:lnTo>
                      <a:pt x="79" y="348"/>
                    </a:lnTo>
                    <a:lnTo>
                      <a:pt x="79" y="365"/>
                    </a:lnTo>
                    <a:lnTo>
                      <a:pt x="27" y="365"/>
                    </a:lnTo>
                    <a:lnTo>
                      <a:pt x="27" y="424"/>
                    </a:lnTo>
                    <a:lnTo>
                      <a:pt x="410" y="424"/>
                    </a:lnTo>
                    <a:lnTo>
                      <a:pt x="410" y="365"/>
                    </a:lnTo>
                    <a:lnTo>
                      <a:pt x="349" y="365"/>
                    </a:lnTo>
                    <a:lnTo>
                      <a:pt x="349" y="348"/>
                    </a:lnTo>
                    <a:lnTo>
                      <a:pt x="288" y="348"/>
                    </a:lnTo>
                    <a:lnTo>
                      <a:pt x="288" y="340"/>
                    </a:lnTo>
                    <a:lnTo>
                      <a:pt x="349" y="323"/>
                    </a:lnTo>
                    <a:lnTo>
                      <a:pt x="436" y="323"/>
                    </a:lnTo>
                    <a:lnTo>
                      <a:pt x="436" y="0"/>
                    </a:lnTo>
                    <a:lnTo>
                      <a:pt x="0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50720" y="5307480"/>
                <a:ext cx="415800" cy="144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58720" y="5280840"/>
                <a:ext cx="21420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8720" y="5269320"/>
                <a:ext cx="21420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50720" y="5242320"/>
                <a:ext cx="415800" cy="144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36680" y="5321880"/>
                <a:ext cx="93600" cy="11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83040" y="536004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9" y="25"/>
                    </a:moveTo>
                    <a:lnTo>
                      <a:pt x="26" y="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6680" y="5374440"/>
                <a:ext cx="93600" cy="11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70080" y="5321880"/>
                <a:ext cx="591480" cy="108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70080" y="5333400"/>
                <a:ext cx="591480" cy="108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36680" y="53474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04720" y="53474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30640" y="5374440"/>
                <a:ext cx="13680" cy="237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71680" y="53474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98320" y="537444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25320" y="53474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7" name="" descr=""/>
              <p:cNvPicPr/>
              <p:nvPr/>
            </p:nvPicPr>
            <p:blipFill>
              <a:blip r:embed="rId2">
                <a:lum bright="10000"/>
              </a:blip>
              <a:stretch/>
            </p:blipFill>
            <p:spPr>
              <a:xfrm>
                <a:off x="3970080" y="4787640"/>
                <a:ext cx="63540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3950640" y="4787640"/>
                <a:ext cx="635400" cy="441720"/>
              </a:xfrm>
              <a:prstGeom prst="rect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3958560" y="451548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240080" y="5376960"/>
            <a:ext cx="0" cy="16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20960" y="2681280"/>
            <a:ext cx="1584360" cy="1674720"/>
          </a:xfrm>
          <a:custGeom>
            <a:avLst/>
            <a:gdLst/>
            <a:ahLst/>
            <a:rect l="l" t="t" r="r" b="b"/>
            <a:pathLst>
              <a:path w="998" h="1055">
                <a:moveTo>
                  <a:pt x="294" y="1055"/>
                </a:moveTo>
                <a:cubicBezTo>
                  <a:pt x="381" y="957"/>
                  <a:pt x="469" y="860"/>
                  <a:pt x="462" y="743"/>
                </a:cubicBezTo>
                <a:cubicBezTo>
                  <a:pt x="454" y="625"/>
                  <a:pt x="322" y="448"/>
                  <a:pt x="246" y="351"/>
                </a:cubicBezTo>
                <a:cubicBezTo>
                  <a:pt x="170" y="253"/>
                  <a:pt x="11" y="214"/>
                  <a:pt x="6" y="159"/>
                </a:cubicBezTo>
                <a:cubicBezTo>
                  <a:pt x="0" y="103"/>
                  <a:pt x="126" y="29"/>
                  <a:pt x="214" y="15"/>
                </a:cubicBezTo>
                <a:cubicBezTo>
                  <a:pt x="301" y="0"/>
                  <a:pt x="403" y="16"/>
                  <a:pt x="534" y="71"/>
                </a:cubicBezTo>
                <a:cubicBezTo>
                  <a:pt x="664" y="125"/>
                  <a:pt x="916" y="299"/>
                  <a:pt x="998" y="343"/>
                </a:cubicBezTo>
              </a:path>
            </a:pathLst>
          </a:custGeom>
          <a:noFill/>
          <a:ln w="28440">
            <a:solidFill>
              <a:srgbClr val="ff003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19800" y="2229840"/>
            <a:ext cx="2227320" cy="276480"/>
            <a:chOff x="5419800" y="2229840"/>
            <a:chExt cx="2227320" cy="276480"/>
          </a:xfrm>
        </p:grpSpPr>
        <p:sp>
          <p:nvSpPr>
            <p:cNvPr id="523" name=""/>
            <p:cNvSpPr/>
            <p:nvPr/>
          </p:nvSpPr>
          <p:spPr>
            <a:xfrm>
              <a:off x="5732640" y="2229840"/>
              <a:ext cx="35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1980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4512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5796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7080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8328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94680" y="22298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286240" y="2413080"/>
            <a:ext cx="3760920" cy="1267920"/>
            <a:chOff x="5286240" y="2413080"/>
            <a:chExt cx="3760920" cy="1267920"/>
          </a:xfrm>
        </p:grpSpPr>
        <p:grpSp>
          <p:nvGrpSpPr>
            <p:cNvPr id="531" name=""/>
            <p:cNvGrpSpPr/>
            <p:nvPr/>
          </p:nvGrpSpPr>
          <p:grpSpPr>
            <a:xfrm>
              <a:off x="7532640" y="2413080"/>
              <a:ext cx="1514520" cy="654120"/>
              <a:chOff x="7532640" y="2413080"/>
              <a:chExt cx="1514520" cy="654120"/>
            </a:xfrm>
          </p:grpSpPr>
          <p:sp>
            <p:nvSpPr>
              <p:cNvPr id="532" name=""/>
              <p:cNvSpPr/>
              <p:nvPr/>
            </p:nvSpPr>
            <p:spPr>
              <a:xfrm>
                <a:off x="7532640" y="2413080"/>
                <a:ext cx="1514520" cy="6541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566480" y="2510640"/>
                <a:ext cx="1448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iles located 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PSS server/dis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5286240" y="3222000"/>
              <a:ext cx="62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9908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2476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3724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008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6112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11920" y="3222000"/>
              <a:ext cx="62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9908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1192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4048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2620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6760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188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3320" y="247176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452760" y="1928880"/>
            <a:ext cx="3175920" cy="2050560"/>
            <a:chOff x="3452760" y="1928880"/>
            <a:chExt cx="3175920" cy="2050560"/>
          </a:xfrm>
        </p:grpSpPr>
        <p:grpSp>
          <p:nvGrpSpPr>
            <p:cNvPr id="549" name=""/>
            <p:cNvGrpSpPr/>
            <p:nvPr/>
          </p:nvGrpSpPr>
          <p:grpSpPr>
            <a:xfrm>
              <a:off x="3452760" y="1928880"/>
              <a:ext cx="1906560" cy="536400"/>
              <a:chOff x="3452760" y="1928880"/>
              <a:chExt cx="1906560" cy="536400"/>
            </a:xfrm>
          </p:grpSpPr>
          <p:sp>
            <p:nvSpPr>
              <p:cNvPr id="550" name=""/>
              <p:cNvSpPr/>
              <p:nvPr/>
            </p:nvSpPr>
            <p:spPr>
              <a:xfrm>
                <a:off x="3765960" y="1928880"/>
                <a:ext cx="1278720" cy="536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52760" y="1967040"/>
                <a:ext cx="1906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iles 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th of trav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 flipH="1">
              <a:off x="4343400" y="2414520"/>
              <a:ext cx="2285280" cy="156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681280" y="3554280"/>
            <a:ext cx="5476320" cy="2976120"/>
            <a:chOff x="2681280" y="3554280"/>
            <a:chExt cx="5476320" cy="2976120"/>
          </a:xfrm>
        </p:grpSpPr>
        <p:grpSp>
          <p:nvGrpSpPr>
            <p:cNvPr id="554" name=""/>
            <p:cNvGrpSpPr/>
            <p:nvPr/>
          </p:nvGrpSpPr>
          <p:grpSpPr>
            <a:xfrm>
              <a:off x="5302080" y="3925800"/>
              <a:ext cx="1408320" cy="590400"/>
              <a:chOff x="5302080" y="3925800"/>
              <a:chExt cx="1408320" cy="590400"/>
            </a:xfrm>
          </p:grpSpPr>
          <p:sp>
            <p:nvSpPr>
              <p:cNvPr id="555" name=""/>
              <p:cNvSpPr/>
              <p:nvPr/>
            </p:nvSpPr>
            <p:spPr>
              <a:xfrm>
                <a:off x="5302080" y="3925800"/>
                <a:ext cx="1408320" cy="59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42760" y="3991680"/>
                <a:ext cx="132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iles retrie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transmit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H="1">
              <a:off x="2681280" y="3554280"/>
              <a:ext cx="5476320" cy="274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450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4502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045040" y="3679920"/>
              <a:ext cx="1107360" cy="285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9E7B-5B54-40C8-833B-C1E587732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Demonstration and Brie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, interactive visualization of large volumes of remot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sca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 data preparation and 3-D fly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sion of multiple types of data from multiple 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PSS fault 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5F6F-EA20-40C9-A81F-5DA7A7F9D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3879720" y="4851360"/>
            <a:ext cx="1593360" cy="1153800"/>
            <a:chOff x="3879720" y="4851360"/>
            <a:chExt cx="1593360" cy="1153800"/>
          </a:xfrm>
        </p:grpSpPr>
        <p:sp>
          <p:nvSpPr>
            <p:cNvPr id="562" name=""/>
            <p:cNvSpPr/>
            <p:nvPr/>
          </p:nvSpPr>
          <p:spPr>
            <a:xfrm>
              <a:off x="3879720" y="49377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95000" y="48513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89560" y="48880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76400" y="5206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86800" y="53758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9720" y="5206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40000" y="49377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21880" y="50576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04240" y="5227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96000" y="49377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 flipV="1">
            <a:off x="7099200" y="4965840"/>
            <a:ext cx="587520" cy="61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162920" y="4003560"/>
            <a:ext cx="1593360" cy="1153800"/>
            <a:chOff x="7162920" y="4003560"/>
            <a:chExt cx="1593360" cy="1153800"/>
          </a:xfrm>
        </p:grpSpPr>
        <p:sp>
          <p:nvSpPr>
            <p:cNvPr id="574" name=""/>
            <p:cNvSpPr/>
            <p:nvPr/>
          </p:nvSpPr>
          <p:spPr>
            <a:xfrm>
              <a:off x="7162920" y="40899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78200" y="40035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72760" y="40402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59600" y="43585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70000" y="45280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43585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23200" y="40899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04720" y="42098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7080" y="4379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79200" y="40899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 flipH="1">
            <a:off x="5992200" y="2764800"/>
            <a:ext cx="360000" cy="43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92680" y="1720800"/>
            <a:ext cx="1593360" cy="1153800"/>
            <a:chOff x="5692680" y="1720800"/>
            <a:chExt cx="1593360" cy="1153800"/>
          </a:xfrm>
        </p:grpSpPr>
        <p:sp>
          <p:nvSpPr>
            <p:cNvPr id="586" name=""/>
            <p:cNvSpPr/>
            <p:nvPr/>
          </p:nvSpPr>
          <p:spPr>
            <a:xfrm>
              <a:off x="569268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07960" y="1720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02520" y="17575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89360" y="2075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760" y="2245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92680" y="2075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5296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34840" y="19270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17200" y="2097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0896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083200" y="22478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541680" y="1720800"/>
            <a:ext cx="1593360" cy="1153800"/>
            <a:chOff x="3541680" y="1720800"/>
            <a:chExt cx="1593360" cy="1153800"/>
          </a:xfrm>
        </p:grpSpPr>
        <p:sp>
          <p:nvSpPr>
            <p:cNvPr id="598" name=""/>
            <p:cNvSpPr/>
            <p:nvPr/>
          </p:nvSpPr>
          <p:spPr>
            <a:xfrm>
              <a:off x="354168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56960" y="1720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51520" y="17575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38360" y="2075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48760" y="2245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41680" y="2075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196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83480" y="19270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5840" y="2097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57960" y="18072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2265480" y="2774880"/>
            <a:ext cx="0" cy="34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542960" y="1738440"/>
            <a:ext cx="1593360" cy="1153800"/>
            <a:chOff x="1542960" y="1738440"/>
            <a:chExt cx="1593360" cy="1153800"/>
          </a:xfrm>
        </p:grpSpPr>
        <p:sp>
          <p:nvSpPr>
            <p:cNvPr id="610" name=""/>
            <p:cNvSpPr/>
            <p:nvPr/>
          </p:nvSpPr>
          <p:spPr>
            <a:xfrm>
              <a:off x="1542960" y="18248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58240" y="1738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52800" y="17751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39640" y="20934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50040" y="22629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42960" y="20934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03240" y="18248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85120" y="19447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67480" y="21146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59240" y="18248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Configu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2520" y="521352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46240" y="521352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I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52560" y="3121200"/>
            <a:ext cx="11113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06840" y="2099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67520" y="2135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63520" y="4290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99320" y="5212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63840" y="5500800"/>
            <a:ext cx="48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47840" y="5481720"/>
            <a:ext cx="73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73800" y="5500800"/>
            <a:ext cx="60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7212960" y="2558160"/>
            <a:ext cx="804240" cy="80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7975440" y="3841560"/>
            <a:ext cx="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8320" y="20995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61360" y="3267000"/>
            <a:ext cx="11113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03560" y="22622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73920" y="5213520"/>
            <a:ext cx="1110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d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622760" y="3795840"/>
          <a:ext cx="2273400" cy="69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2760" y="3795840"/>
                    <a:ext cx="22734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 flipV="1">
            <a:off x="5918040" y="3670200"/>
            <a:ext cx="24768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5103720" y="3606840"/>
            <a:ext cx="12384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60880" y="3100320"/>
            <a:ext cx="11415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219320" y="2984400"/>
            <a:ext cx="6327720" cy="3052800"/>
            <a:chOff x="1219320" y="2984400"/>
            <a:chExt cx="6327720" cy="3052800"/>
          </a:xfrm>
        </p:grpSpPr>
        <p:grpSp>
          <p:nvGrpSpPr>
            <p:cNvPr id="643" name=""/>
            <p:cNvGrpSpPr/>
            <p:nvPr/>
          </p:nvGrpSpPr>
          <p:grpSpPr>
            <a:xfrm>
              <a:off x="1219320" y="3483000"/>
              <a:ext cx="768240" cy="423720"/>
              <a:chOff x="1219320" y="3483000"/>
              <a:chExt cx="768240" cy="423720"/>
            </a:xfrm>
          </p:grpSpPr>
          <p:sp>
            <p:nvSpPr>
              <p:cNvPr id="644" name=""/>
              <p:cNvSpPr/>
              <p:nvPr/>
            </p:nvSpPr>
            <p:spPr>
              <a:xfrm>
                <a:off x="1219320" y="3483000"/>
                <a:ext cx="768240" cy="42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53160" y="3548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P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828880" y="5613480"/>
              <a:ext cx="768240" cy="423720"/>
              <a:chOff x="2828880" y="5613480"/>
              <a:chExt cx="768240" cy="423720"/>
            </a:xfrm>
          </p:grpSpPr>
          <p:sp>
            <p:nvSpPr>
              <p:cNvPr id="647" name=""/>
              <p:cNvSpPr/>
              <p:nvPr/>
            </p:nvSpPr>
            <p:spPr>
              <a:xfrm>
                <a:off x="2828880" y="5613480"/>
                <a:ext cx="768240" cy="42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62720" y="56793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P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6778800" y="2984400"/>
              <a:ext cx="768240" cy="424080"/>
              <a:chOff x="6778800" y="2984400"/>
              <a:chExt cx="768240" cy="424080"/>
            </a:xfrm>
          </p:grpSpPr>
          <p:sp>
            <p:nvSpPr>
              <p:cNvPr id="650" name=""/>
              <p:cNvSpPr/>
              <p:nvPr/>
            </p:nvSpPr>
            <p:spPr>
              <a:xfrm>
                <a:off x="6778800" y="2984400"/>
                <a:ext cx="768240" cy="42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12640" y="3050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P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335480" y="2994120"/>
              <a:ext cx="768240" cy="423720"/>
              <a:chOff x="4335480" y="2994120"/>
              <a:chExt cx="768240" cy="423720"/>
            </a:xfrm>
          </p:grpSpPr>
          <p:sp>
            <p:nvSpPr>
              <p:cNvPr id="653" name=""/>
              <p:cNvSpPr/>
              <p:nvPr/>
            </p:nvSpPr>
            <p:spPr>
              <a:xfrm>
                <a:off x="4335480" y="2994120"/>
                <a:ext cx="768240" cy="42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69320" y="3060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P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304920" y="4432320"/>
            <a:ext cx="887400" cy="2010960"/>
            <a:chOff x="304920" y="4432320"/>
            <a:chExt cx="887400" cy="2010960"/>
          </a:xfrm>
        </p:grpSpPr>
        <p:grpSp>
          <p:nvGrpSpPr>
            <p:cNvPr id="656" name=""/>
            <p:cNvGrpSpPr/>
            <p:nvPr/>
          </p:nvGrpSpPr>
          <p:grpSpPr>
            <a:xfrm>
              <a:off x="304920" y="4432320"/>
              <a:ext cx="836640" cy="812520"/>
              <a:chOff x="304920" y="4432320"/>
              <a:chExt cx="836640" cy="812520"/>
            </a:xfrm>
          </p:grpSpPr>
          <p:sp>
            <p:nvSpPr>
              <p:cNvPr id="657" name=""/>
              <p:cNvSpPr/>
              <p:nvPr/>
            </p:nvSpPr>
            <p:spPr>
              <a:xfrm>
                <a:off x="304920" y="4432320"/>
                <a:ext cx="831960" cy="812520"/>
              </a:xfrm>
              <a:custGeom>
                <a:avLst/>
                <a:gdLst/>
                <a:ahLst/>
                <a:rect l="l" t="t" r="r" b="b"/>
                <a:pathLst>
                  <a:path w="436" h="424">
                    <a:moveTo>
                      <a:pt x="0" y="323"/>
                    </a:moveTo>
                    <a:lnTo>
                      <a:pt x="79" y="323"/>
                    </a:lnTo>
                    <a:lnTo>
                      <a:pt x="149" y="340"/>
                    </a:lnTo>
                    <a:lnTo>
                      <a:pt x="149" y="348"/>
                    </a:lnTo>
                    <a:lnTo>
                      <a:pt x="79" y="348"/>
                    </a:lnTo>
                    <a:lnTo>
                      <a:pt x="79" y="365"/>
                    </a:lnTo>
                    <a:lnTo>
                      <a:pt x="27" y="365"/>
                    </a:lnTo>
                    <a:lnTo>
                      <a:pt x="27" y="424"/>
                    </a:lnTo>
                    <a:lnTo>
                      <a:pt x="410" y="424"/>
                    </a:lnTo>
                    <a:lnTo>
                      <a:pt x="410" y="365"/>
                    </a:lnTo>
                    <a:lnTo>
                      <a:pt x="349" y="365"/>
                    </a:lnTo>
                    <a:lnTo>
                      <a:pt x="349" y="348"/>
                    </a:lnTo>
                    <a:lnTo>
                      <a:pt x="288" y="348"/>
                    </a:lnTo>
                    <a:lnTo>
                      <a:pt x="288" y="340"/>
                    </a:lnTo>
                    <a:lnTo>
                      <a:pt x="349" y="323"/>
                    </a:lnTo>
                    <a:lnTo>
                      <a:pt x="436" y="323"/>
                    </a:lnTo>
                    <a:lnTo>
                      <a:pt x="436" y="0"/>
                    </a:lnTo>
                    <a:lnTo>
                      <a:pt x="0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55760" y="5132160"/>
                <a:ext cx="514440" cy="180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9320" y="5099040"/>
                <a:ext cx="26496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9320" y="5084640"/>
                <a:ext cx="26496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55760" y="5051160"/>
                <a:ext cx="514440" cy="180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38480" y="5149800"/>
                <a:ext cx="115920" cy="144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1880" y="5197320"/>
                <a:ext cx="48960" cy="475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9" y="25"/>
                    </a:moveTo>
                    <a:lnTo>
                      <a:pt x="26" y="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480" y="5214960"/>
                <a:ext cx="115920" cy="140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55680" y="5149800"/>
                <a:ext cx="731880" cy="144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5680" y="5164200"/>
                <a:ext cx="731880" cy="144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38480" y="5181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360" y="518148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400" y="5214960"/>
                <a:ext cx="17280" cy="298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5160" y="5181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8280" y="521496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1760" y="5181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3" name="" descr=""/>
              <p:cNvPicPr/>
              <p:nvPr/>
            </p:nvPicPr>
            <p:blipFill>
              <a:blip r:embed="rId3">
                <a:lum bright="10000"/>
              </a:blip>
              <a:stretch/>
            </p:blipFill>
            <p:spPr>
              <a:xfrm>
                <a:off x="355680" y="4487760"/>
                <a:ext cx="785880" cy="52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31920" y="4487760"/>
                <a:ext cx="785880" cy="547560"/>
              </a:xfrm>
              <a:prstGeom prst="rect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55680" y="5630760"/>
              <a:ext cx="836640" cy="812520"/>
              <a:chOff x="355680" y="5630760"/>
              <a:chExt cx="836640" cy="81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355680" y="5630760"/>
                <a:ext cx="831960" cy="812520"/>
              </a:xfrm>
              <a:custGeom>
                <a:avLst/>
                <a:gdLst/>
                <a:ahLst/>
                <a:rect l="l" t="t" r="r" b="b"/>
                <a:pathLst>
                  <a:path w="436" h="424">
                    <a:moveTo>
                      <a:pt x="0" y="323"/>
                    </a:moveTo>
                    <a:lnTo>
                      <a:pt x="79" y="323"/>
                    </a:lnTo>
                    <a:lnTo>
                      <a:pt x="149" y="340"/>
                    </a:lnTo>
                    <a:lnTo>
                      <a:pt x="149" y="348"/>
                    </a:lnTo>
                    <a:lnTo>
                      <a:pt x="79" y="348"/>
                    </a:lnTo>
                    <a:lnTo>
                      <a:pt x="79" y="365"/>
                    </a:lnTo>
                    <a:lnTo>
                      <a:pt x="27" y="365"/>
                    </a:lnTo>
                    <a:lnTo>
                      <a:pt x="27" y="424"/>
                    </a:lnTo>
                    <a:lnTo>
                      <a:pt x="410" y="424"/>
                    </a:lnTo>
                    <a:lnTo>
                      <a:pt x="410" y="365"/>
                    </a:lnTo>
                    <a:lnTo>
                      <a:pt x="349" y="365"/>
                    </a:lnTo>
                    <a:lnTo>
                      <a:pt x="349" y="348"/>
                    </a:lnTo>
                    <a:lnTo>
                      <a:pt x="288" y="348"/>
                    </a:lnTo>
                    <a:lnTo>
                      <a:pt x="288" y="340"/>
                    </a:lnTo>
                    <a:lnTo>
                      <a:pt x="349" y="323"/>
                    </a:lnTo>
                    <a:lnTo>
                      <a:pt x="436" y="323"/>
                    </a:lnTo>
                    <a:lnTo>
                      <a:pt x="436" y="0"/>
                    </a:lnTo>
                    <a:lnTo>
                      <a:pt x="0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6520" y="6330600"/>
                <a:ext cx="514440" cy="180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0080" y="6297480"/>
                <a:ext cx="26496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40080" y="6283080"/>
                <a:ext cx="26496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6520" y="6249600"/>
                <a:ext cx="514440" cy="180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0" y="0"/>
                    </a:moveTo>
                    <a:lnTo>
                      <a:pt x="27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9240" y="6348240"/>
                <a:ext cx="115920" cy="144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2640" y="6395760"/>
                <a:ext cx="48960" cy="475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9" y="25"/>
                    </a:moveTo>
                    <a:lnTo>
                      <a:pt x="26" y="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89240" y="6413400"/>
                <a:ext cx="115920" cy="140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06440" y="6348240"/>
                <a:ext cx="731880" cy="144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6440" y="6362640"/>
                <a:ext cx="731880" cy="1440"/>
              </a:xfrm>
              <a:custGeom>
                <a:avLst/>
                <a:gdLst/>
                <a:ahLst/>
                <a:rect l="l" t="t" r="r" b="b"/>
                <a:pathLst>
                  <a:path w="383" h="0">
                    <a:moveTo>
                      <a:pt x="0" y="0"/>
                    </a:moveTo>
                    <a:lnTo>
                      <a:pt x="38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89240" y="63799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3120" y="637992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5160" y="6413400"/>
                <a:ext cx="17280" cy="298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5920" y="63799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9040" y="641340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2520" y="63799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2" name="" descr=""/>
              <p:cNvPicPr/>
              <p:nvPr/>
            </p:nvPicPr>
            <p:blipFill>
              <a:blip r:embed="rId4">
                <a:lum bright="10000"/>
              </a:blip>
              <a:stretch/>
            </p:blipFill>
            <p:spPr>
              <a:xfrm>
                <a:off x="406440" y="5686200"/>
                <a:ext cx="785880" cy="52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382680" y="5686200"/>
                <a:ext cx="785880" cy="547560"/>
              </a:xfrm>
              <a:prstGeom prst="rect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5B0F-E1B5-4FDD-B65C-E0A5765571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set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320840" y="1644480"/>
          <a:ext cx="6504120" cy="44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644480"/>
                    <a:ext cx="6504120" cy="44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84E2-29C9-4D8D-9DBC-2CE9E13112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3894120" y="4827600"/>
            <a:ext cx="1593360" cy="1153800"/>
            <a:chOff x="3894120" y="4827600"/>
            <a:chExt cx="1593360" cy="1153800"/>
          </a:xfrm>
        </p:grpSpPr>
        <p:sp>
          <p:nvSpPr>
            <p:cNvPr id="698" name=""/>
            <p:cNvSpPr/>
            <p:nvPr/>
          </p:nvSpPr>
          <p:spPr>
            <a:xfrm>
              <a:off x="3894120" y="49140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09400" y="48276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03960" y="4864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90800" y="5182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1200" y="53521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94120" y="5182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54400" y="49140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35920" y="50338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8280" y="52038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10400" y="49140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V="1">
            <a:off x="7975440" y="385452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099200" y="4978440"/>
            <a:ext cx="587520" cy="61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162920" y="3959280"/>
            <a:ext cx="1593360" cy="1153800"/>
            <a:chOff x="7162920" y="3959280"/>
            <a:chExt cx="1593360" cy="1153800"/>
          </a:xfrm>
        </p:grpSpPr>
        <p:sp>
          <p:nvSpPr>
            <p:cNvPr id="711" name=""/>
            <p:cNvSpPr/>
            <p:nvPr/>
          </p:nvSpPr>
          <p:spPr>
            <a:xfrm>
              <a:off x="7162920" y="4045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78200" y="39592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72760" y="3996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59600" y="4314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70000" y="44838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2920" y="4314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23200" y="4045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04720" y="4165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87080" y="43354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9200" y="4045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 flipH="1">
            <a:off x="5992200" y="2777400"/>
            <a:ext cx="360000" cy="43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508200" y="1751040"/>
            <a:ext cx="1593360" cy="1153800"/>
            <a:chOff x="3508200" y="1751040"/>
            <a:chExt cx="1593360" cy="1153800"/>
          </a:xfrm>
        </p:grpSpPr>
        <p:sp>
          <p:nvSpPr>
            <p:cNvPr id="723" name=""/>
            <p:cNvSpPr/>
            <p:nvPr/>
          </p:nvSpPr>
          <p:spPr>
            <a:xfrm>
              <a:off x="350820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3480" y="17510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18040" y="1787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04880" y="2106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5280" y="2275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8200" y="2106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6848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50360" y="1957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32720" y="2127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2448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700600" y="1733400"/>
            <a:ext cx="1593360" cy="1153800"/>
            <a:chOff x="5700600" y="1733400"/>
            <a:chExt cx="1593360" cy="1153800"/>
          </a:xfrm>
        </p:grpSpPr>
        <p:sp>
          <p:nvSpPr>
            <p:cNvPr id="734" name=""/>
            <p:cNvSpPr/>
            <p:nvPr/>
          </p:nvSpPr>
          <p:spPr>
            <a:xfrm>
              <a:off x="570060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15880" y="17334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10440" y="17701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97280" y="20883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07680" y="22579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00600" y="20883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088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42760" y="19396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25120" y="21096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688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Flow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2520" y="522612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6240" y="522612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I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52560" y="3133800"/>
            <a:ext cx="11113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67520" y="21488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63520" y="4303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99320" y="52254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219320" y="3495600"/>
            <a:ext cx="768240" cy="424080"/>
            <a:chOff x="1219320" y="3495600"/>
            <a:chExt cx="768240" cy="424080"/>
          </a:xfrm>
        </p:grpSpPr>
        <p:sp>
          <p:nvSpPr>
            <p:cNvPr id="752" name=""/>
            <p:cNvSpPr/>
            <p:nvPr/>
          </p:nvSpPr>
          <p:spPr>
            <a:xfrm>
              <a:off x="1219320" y="3495600"/>
              <a:ext cx="76824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53160" y="35618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828880" y="5626080"/>
            <a:ext cx="768240" cy="423720"/>
            <a:chOff x="2828880" y="5626080"/>
            <a:chExt cx="768240" cy="423720"/>
          </a:xfrm>
        </p:grpSpPr>
        <p:sp>
          <p:nvSpPr>
            <p:cNvPr id="755" name=""/>
            <p:cNvSpPr/>
            <p:nvPr/>
          </p:nvSpPr>
          <p:spPr>
            <a:xfrm>
              <a:off x="2828880" y="5626080"/>
              <a:ext cx="76824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62720" y="56919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563840" y="5513400"/>
            <a:ext cx="48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47840" y="549432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7840" y="5513400"/>
            <a:ext cx="5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4920" y="4444920"/>
            <a:ext cx="836640" cy="812520"/>
            <a:chOff x="304920" y="4444920"/>
            <a:chExt cx="836640" cy="812520"/>
          </a:xfrm>
        </p:grpSpPr>
        <p:sp>
          <p:nvSpPr>
            <p:cNvPr id="761" name=""/>
            <p:cNvSpPr/>
            <p:nvPr/>
          </p:nvSpPr>
          <p:spPr>
            <a:xfrm>
              <a:off x="304920" y="4444920"/>
              <a:ext cx="831960" cy="812520"/>
            </a:xfrm>
            <a:custGeom>
              <a:avLst/>
              <a:gdLst/>
              <a:ahLst/>
              <a:rect l="l" t="t" r="r" b="b"/>
              <a:pathLst>
                <a:path w="436" h="424">
                  <a:moveTo>
                    <a:pt x="0" y="323"/>
                  </a:moveTo>
                  <a:lnTo>
                    <a:pt x="79" y="323"/>
                  </a:lnTo>
                  <a:lnTo>
                    <a:pt x="149" y="340"/>
                  </a:lnTo>
                  <a:lnTo>
                    <a:pt x="149" y="348"/>
                  </a:lnTo>
                  <a:lnTo>
                    <a:pt x="79" y="348"/>
                  </a:lnTo>
                  <a:lnTo>
                    <a:pt x="79" y="365"/>
                  </a:lnTo>
                  <a:lnTo>
                    <a:pt x="27" y="365"/>
                  </a:lnTo>
                  <a:lnTo>
                    <a:pt x="27" y="424"/>
                  </a:lnTo>
                  <a:lnTo>
                    <a:pt x="410" y="424"/>
                  </a:lnTo>
                  <a:lnTo>
                    <a:pt x="410" y="365"/>
                  </a:lnTo>
                  <a:lnTo>
                    <a:pt x="349" y="365"/>
                  </a:lnTo>
                  <a:lnTo>
                    <a:pt x="349" y="348"/>
                  </a:lnTo>
                  <a:lnTo>
                    <a:pt x="288" y="348"/>
                  </a:lnTo>
                  <a:lnTo>
                    <a:pt x="288" y="340"/>
                  </a:lnTo>
                  <a:lnTo>
                    <a:pt x="349" y="323"/>
                  </a:lnTo>
                  <a:lnTo>
                    <a:pt x="436" y="323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5760" y="514476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9320" y="511164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9320" y="509724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5760" y="506376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8480" y="5162400"/>
              <a:ext cx="115920" cy="1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1880" y="5209920"/>
              <a:ext cx="48960" cy="47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9" y="25"/>
                  </a:moveTo>
                  <a:lnTo>
                    <a:pt x="2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8480" y="5227560"/>
              <a:ext cx="115920" cy="14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55680" y="516240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5680" y="517680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8480" y="519408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2360" y="5194080"/>
              <a:ext cx="16200" cy="15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4400" y="5227560"/>
              <a:ext cx="17280" cy="298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5160" y="519408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8280" y="5227560"/>
              <a:ext cx="15840" cy="298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1760" y="5194080"/>
              <a:ext cx="1764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355680" y="4500360"/>
              <a:ext cx="7858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331920" y="4500360"/>
              <a:ext cx="785880" cy="5475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1219320" y="3683160"/>
            <a:ext cx="6591240" cy="1612800"/>
          </a:xfrm>
          <a:custGeom>
            <a:avLst/>
            <a:gdLst/>
            <a:ahLst/>
            <a:rect l="l" t="t" r="r" b="b"/>
            <a:pathLst>
              <a:path w="4008" h="1112">
                <a:moveTo>
                  <a:pt x="0" y="720"/>
                </a:moveTo>
                <a:cubicBezTo>
                  <a:pt x="112" y="796"/>
                  <a:pt x="224" y="872"/>
                  <a:pt x="816" y="912"/>
                </a:cubicBezTo>
                <a:cubicBezTo>
                  <a:pt x="1408" y="952"/>
                  <a:pt x="3096" y="1112"/>
                  <a:pt x="3552" y="960"/>
                </a:cubicBezTo>
                <a:cubicBezTo>
                  <a:pt x="4008" y="808"/>
                  <a:pt x="3552" y="160"/>
                  <a:pt x="3552" y="0"/>
                </a:cubicBezTo>
              </a:path>
            </a:pathLst>
          </a:custGeom>
          <a:noFill/>
          <a:ln w="38160">
            <a:solidFill>
              <a:srgbClr val="ff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7212960" y="2570760"/>
            <a:ext cx="804240" cy="80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265480" y="2787480"/>
            <a:ext cx="0" cy="34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38320" y="2112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61360" y="3279600"/>
            <a:ext cx="111132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778800" y="2997360"/>
            <a:ext cx="768240" cy="423720"/>
            <a:chOff x="6778800" y="2997360"/>
            <a:chExt cx="768240" cy="423720"/>
          </a:xfrm>
        </p:grpSpPr>
        <p:sp>
          <p:nvSpPr>
            <p:cNvPr id="785" name=""/>
            <p:cNvSpPr/>
            <p:nvPr/>
          </p:nvSpPr>
          <p:spPr>
            <a:xfrm>
              <a:off x="6778800" y="2997360"/>
              <a:ext cx="76824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12640" y="30632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072040" y="22604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03560" y="2274840"/>
            <a:ext cx="40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73920" y="5226120"/>
            <a:ext cx="1110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d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4622760" y="3808440"/>
          <a:ext cx="22734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2760" y="3808440"/>
                    <a:ext cx="22734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 flipV="1">
            <a:off x="5918040" y="3683160"/>
            <a:ext cx="24768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03720" y="3619440"/>
            <a:ext cx="12384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60880" y="3112920"/>
            <a:ext cx="11415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4335480" y="3006720"/>
            <a:ext cx="768240" cy="423720"/>
            <a:chOff x="4335480" y="3006720"/>
            <a:chExt cx="768240" cy="423720"/>
          </a:xfrm>
        </p:grpSpPr>
        <p:sp>
          <p:nvSpPr>
            <p:cNvPr id="796" name=""/>
            <p:cNvSpPr/>
            <p:nvPr/>
          </p:nvSpPr>
          <p:spPr>
            <a:xfrm>
              <a:off x="4335480" y="3006720"/>
              <a:ext cx="76824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69320" y="307260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04920" y="5643720"/>
            <a:ext cx="836640" cy="812520"/>
            <a:chOff x="304920" y="5643720"/>
            <a:chExt cx="836640" cy="812520"/>
          </a:xfrm>
        </p:grpSpPr>
        <p:sp>
          <p:nvSpPr>
            <p:cNvPr id="799" name=""/>
            <p:cNvSpPr/>
            <p:nvPr/>
          </p:nvSpPr>
          <p:spPr>
            <a:xfrm>
              <a:off x="304920" y="5643720"/>
              <a:ext cx="831960" cy="812520"/>
            </a:xfrm>
            <a:custGeom>
              <a:avLst/>
              <a:gdLst/>
              <a:ahLst/>
              <a:rect l="l" t="t" r="r" b="b"/>
              <a:pathLst>
                <a:path w="436" h="424">
                  <a:moveTo>
                    <a:pt x="0" y="323"/>
                  </a:moveTo>
                  <a:lnTo>
                    <a:pt x="79" y="323"/>
                  </a:lnTo>
                  <a:lnTo>
                    <a:pt x="149" y="340"/>
                  </a:lnTo>
                  <a:lnTo>
                    <a:pt x="149" y="348"/>
                  </a:lnTo>
                  <a:lnTo>
                    <a:pt x="79" y="348"/>
                  </a:lnTo>
                  <a:lnTo>
                    <a:pt x="79" y="365"/>
                  </a:lnTo>
                  <a:lnTo>
                    <a:pt x="27" y="365"/>
                  </a:lnTo>
                  <a:lnTo>
                    <a:pt x="27" y="424"/>
                  </a:lnTo>
                  <a:lnTo>
                    <a:pt x="410" y="424"/>
                  </a:lnTo>
                  <a:lnTo>
                    <a:pt x="410" y="365"/>
                  </a:lnTo>
                  <a:lnTo>
                    <a:pt x="349" y="365"/>
                  </a:lnTo>
                  <a:lnTo>
                    <a:pt x="349" y="348"/>
                  </a:lnTo>
                  <a:lnTo>
                    <a:pt x="288" y="348"/>
                  </a:lnTo>
                  <a:lnTo>
                    <a:pt x="288" y="340"/>
                  </a:lnTo>
                  <a:lnTo>
                    <a:pt x="349" y="323"/>
                  </a:lnTo>
                  <a:lnTo>
                    <a:pt x="436" y="323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5760" y="634356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89320" y="631044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9320" y="629604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5760" y="626256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8480" y="6361200"/>
              <a:ext cx="115920" cy="1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1880" y="6408720"/>
              <a:ext cx="48960" cy="47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9" y="25"/>
                  </a:moveTo>
                  <a:lnTo>
                    <a:pt x="2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8480" y="6426360"/>
              <a:ext cx="115920" cy="14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5680" y="636120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5680" y="637560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8480" y="639288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2360" y="6392880"/>
              <a:ext cx="16200" cy="15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4400" y="6426360"/>
              <a:ext cx="17280" cy="298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160" y="639288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8280" y="6426360"/>
              <a:ext cx="15840" cy="298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1760" y="6392880"/>
              <a:ext cx="1764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4">
              <a:lum bright="10000"/>
            </a:blip>
            <a:stretch/>
          </p:blipFill>
          <p:spPr>
            <a:xfrm>
              <a:off x="355680" y="5699160"/>
              <a:ext cx="7858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331920" y="5699160"/>
              <a:ext cx="785880" cy="5475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563840" y="1751040"/>
            <a:ext cx="1593360" cy="1153800"/>
            <a:chOff x="1563840" y="1751040"/>
            <a:chExt cx="1593360" cy="1153800"/>
          </a:xfrm>
        </p:grpSpPr>
        <p:sp>
          <p:nvSpPr>
            <p:cNvPr id="818" name=""/>
            <p:cNvSpPr/>
            <p:nvPr/>
          </p:nvSpPr>
          <p:spPr>
            <a:xfrm>
              <a:off x="156384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79120" y="17510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73680" y="17877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0520" y="2106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70920" y="2275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63840" y="2106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2412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5640" y="19573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88000" y="2127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80120" y="18374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927440" y="21218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2CBB-C645-48BB-84BE-BD8152063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set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1320840" y="1644480"/>
          <a:ext cx="6504120" cy="44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644480"/>
                    <a:ext cx="6504120" cy="44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B578-C427-45C1-B9DD-B5646B2932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2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I Octane (~$50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-3, IRIX, DP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frame/sec, ~80Mb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-processor PC with graphics accel. (~$8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Ethernet, Windows NT, 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frame/sec, ~0.5Mb/s (Internet-limi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-processor PC (~$4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-3, Linux, DP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frame/sec, ~10Mb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ptop (~$3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Ethernet, Windows 98, 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 frame/sec, ~0.5Mb/s (Internet-limi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F940-6A3F-4C1E-8C88-7088C432C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raVision 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1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e datasets: data from multiple sources, at different re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ML overlays: wind vectors, buildings, roads; viewable with standard brows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-vector dataset hosted at NA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-registered maps for nav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defined flight paths for operations support,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1A9C-9F1F-449B-BE7D-E3C1C15DC6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876240" y="1143000"/>
          <a:ext cx="75819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143000"/>
                    <a:ext cx="75819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3440" y="304560"/>
            <a:ext cx="6524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PSS Cache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5956-E8D2-4917-BA90-F36383F769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PSS Costs (Jan. ‘99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952560" y="2152800"/>
          <a:ext cx="7240680" cy="255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52800"/>
                    <a:ext cx="7240680" cy="25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F011-E2A8-42F9-A893-31CC89FFE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IC Scenar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16580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0655-D919-43D2-B4ED-A6F57111E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traffic mon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PSS system mon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Log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s events at critical points of distribute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complete view of system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ization tools allow for real-time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t-based management of measurement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8AAF-DCFA-4AF7-A16F-62C5681335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Logg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609480" y="1447920"/>
          <a:ext cx="74408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408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E661-2C39-4F1C-B28B-7AB0D2AFC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PSS Capabil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et must be replica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le requests sent to server that  will provide the best performance, based on current server load and network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TCP tu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size determined by throughput and delay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detection of failed server, switchover to alternate servers, and reconnection after 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397E-0C16-4C18-80F5-0A77F1A15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3868560" y="4857840"/>
            <a:ext cx="1593360" cy="1153800"/>
            <a:chOff x="3868560" y="4857840"/>
            <a:chExt cx="1593360" cy="1153800"/>
          </a:xfrm>
        </p:grpSpPr>
        <p:sp>
          <p:nvSpPr>
            <p:cNvPr id="850" name=""/>
            <p:cNvSpPr/>
            <p:nvPr/>
          </p:nvSpPr>
          <p:spPr>
            <a:xfrm>
              <a:off x="3868560" y="49442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83840" y="48578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78400" y="4894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65240" y="52128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75640" y="53823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68560" y="52128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28840" y="49442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10720" y="50641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393080" y="52340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84840" y="494424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 flipV="1">
            <a:off x="7099200" y="4939920"/>
            <a:ext cx="587520" cy="6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162920" y="3981600"/>
            <a:ext cx="1593360" cy="1153440"/>
            <a:chOff x="7162920" y="3981600"/>
            <a:chExt cx="1593360" cy="1153440"/>
          </a:xfrm>
        </p:grpSpPr>
        <p:sp>
          <p:nvSpPr>
            <p:cNvPr id="862" name=""/>
            <p:cNvSpPr/>
            <p:nvPr/>
          </p:nvSpPr>
          <p:spPr>
            <a:xfrm>
              <a:off x="7162920" y="4068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78200" y="39816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772760" y="401832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9600" y="43365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70000" y="450612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62920" y="43365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23200" y="4068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704720" y="41878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7080" y="4357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79200" y="4068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662440" y="1733400"/>
            <a:ext cx="1593360" cy="1153800"/>
            <a:chOff x="5662440" y="1733400"/>
            <a:chExt cx="1593360" cy="1153800"/>
          </a:xfrm>
        </p:grpSpPr>
        <p:sp>
          <p:nvSpPr>
            <p:cNvPr id="873" name=""/>
            <p:cNvSpPr/>
            <p:nvPr/>
          </p:nvSpPr>
          <p:spPr>
            <a:xfrm>
              <a:off x="566244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77720" y="17334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72280" y="17701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59120" y="20883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969520" y="225792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62440" y="20883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2272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04600" y="19396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86960" y="21096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78720" y="1819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510000" y="1668600"/>
            <a:ext cx="1593360" cy="1153440"/>
            <a:chOff x="3510000" y="1668600"/>
            <a:chExt cx="1593360" cy="1153440"/>
          </a:xfrm>
        </p:grpSpPr>
        <p:sp>
          <p:nvSpPr>
            <p:cNvPr id="884" name=""/>
            <p:cNvSpPr/>
            <p:nvPr/>
          </p:nvSpPr>
          <p:spPr>
            <a:xfrm>
              <a:off x="3510000" y="1755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25280" y="16686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19840" y="170532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06680" y="20235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17080" y="219312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510000" y="202356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0280" y="1755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51800" y="18748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34160" y="204480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26280" y="1755000"/>
              <a:ext cx="7966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 flipV="1">
            <a:off x="2265480" y="2749320"/>
            <a:ext cx="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42960" y="1673280"/>
            <a:ext cx="1593360" cy="1153800"/>
            <a:chOff x="1542960" y="1673280"/>
            <a:chExt cx="1593360" cy="1153800"/>
          </a:xfrm>
        </p:grpSpPr>
        <p:sp>
          <p:nvSpPr>
            <p:cNvPr id="896" name=""/>
            <p:cNvSpPr/>
            <p:nvPr/>
          </p:nvSpPr>
          <p:spPr>
            <a:xfrm>
              <a:off x="1542960" y="1759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58240" y="16732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52800" y="17100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39640" y="2028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50040" y="219780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42960" y="202824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03240" y="1759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85120" y="187956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67480" y="2049480"/>
              <a:ext cx="796680" cy="62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659240" y="1759680"/>
              <a:ext cx="796680" cy="62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Flow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52520" y="518796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46240" y="5187960"/>
            <a:ext cx="11113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I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852560" y="3095640"/>
            <a:ext cx="11113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06840" y="2074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167520" y="2110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3520" y="4264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99320" y="51872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219320" y="3457440"/>
            <a:ext cx="768240" cy="424080"/>
            <a:chOff x="1219320" y="3457440"/>
            <a:chExt cx="768240" cy="424080"/>
          </a:xfrm>
        </p:grpSpPr>
        <p:sp>
          <p:nvSpPr>
            <p:cNvPr id="915" name=""/>
            <p:cNvSpPr/>
            <p:nvPr/>
          </p:nvSpPr>
          <p:spPr>
            <a:xfrm>
              <a:off x="1219320" y="3457440"/>
              <a:ext cx="76824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53160" y="35236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828880" y="5587920"/>
            <a:ext cx="768240" cy="424080"/>
            <a:chOff x="2828880" y="5587920"/>
            <a:chExt cx="768240" cy="424080"/>
          </a:xfrm>
        </p:grpSpPr>
        <p:sp>
          <p:nvSpPr>
            <p:cNvPr id="918" name=""/>
            <p:cNvSpPr/>
            <p:nvPr/>
          </p:nvSpPr>
          <p:spPr>
            <a:xfrm>
              <a:off x="2828880" y="5587920"/>
              <a:ext cx="76824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62720" y="56541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563840" y="5475240"/>
            <a:ext cx="48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47840" y="5456160"/>
            <a:ext cx="67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62640" y="5475240"/>
            <a:ext cx="6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04920" y="4406760"/>
            <a:ext cx="836640" cy="812520"/>
            <a:chOff x="304920" y="4406760"/>
            <a:chExt cx="836640" cy="812520"/>
          </a:xfrm>
        </p:grpSpPr>
        <p:sp>
          <p:nvSpPr>
            <p:cNvPr id="924" name=""/>
            <p:cNvSpPr/>
            <p:nvPr/>
          </p:nvSpPr>
          <p:spPr>
            <a:xfrm>
              <a:off x="304920" y="4406760"/>
              <a:ext cx="831960" cy="812520"/>
            </a:xfrm>
            <a:custGeom>
              <a:avLst/>
              <a:gdLst/>
              <a:ahLst/>
              <a:rect l="l" t="t" r="r" b="b"/>
              <a:pathLst>
                <a:path w="436" h="424">
                  <a:moveTo>
                    <a:pt x="0" y="323"/>
                  </a:moveTo>
                  <a:lnTo>
                    <a:pt x="79" y="323"/>
                  </a:lnTo>
                  <a:lnTo>
                    <a:pt x="149" y="340"/>
                  </a:lnTo>
                  <a:lnTo>
                    <a:pt x="149" y="348"/>
                  </a:lnTo>
                  <a:lnTo>
                    <a:pt x="79" y="348"/>
                  </a:lnTo>
                  <a:lnTo>
                    <a:pt x="79" y="365"/>
                  </a:lnTo>
                  <a:lnTo>
                    <a:pt x="27" y="365"/>
                  </a:lnTo>
                  <a:lnTo>
                    <a:pt x="27" y="424"/>
                  </a:lnTo>
                  <a:lnTo>
                    <a:pt x="410" y="424"/>
                  </a:lnTo>
                  <a:lnTo>
                    <a:pt x="410" y="365"/>
                  </a:lnTo>
                  <a:lnTo>
                    <a:pt x="349" y="365"/>
                  </a:lnTo>
                  <a:lnTo>
                    <a:pt x="349" y="348"/>
                  </a:lnTo>
                  <a:lnTo>
                    <a:pt x="288" y="348"/>
                  </a:lnTo>
                  <a:lnTo>
                    <a:pt x="288" y="340"/>
                  </a:lnTo>
                  <a:lnTo>
                    <a:pt x="349" y="323"/>
                  </a:lnTo>
                  <a:lnTo>
                    <a:pt x="436" y="323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5760" y="510660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9320" y="507348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9320" y="505908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5760" y="502560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8480" y="5124240"/>
              <a:ext cx="115920" cy="1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1880" y="5171760"/>
              <a:ext cx="48960" cy="47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9" y="25"/>
                  </a:moveTo>
                  <a:lnTo>
                    <a:pt x="2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8480" y="5189400"/>
              <a:ext cx="115920" cy="14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5680" y="512424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680" y="513864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8480" y="515592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2360" y="5155920"/>
              <a:ext cx="16200" cy="15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4400" y="5189400"/>
              <a:ext cx="17280" cy="298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05160" y="515592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8280" y="5189400"/>
              <a:ext cx="15840" cy="298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1760" y="5155920"/>
              <a:ext cx="1764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0" name="" descr="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355680" y="4462200"/>
              <a:ext cx="7858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331920" y="4462200"/>
              <a:ext cx="785880" cy="5475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 flipH="1" flipV="1">
            <a:off x="7212960" y="2532960"/>
            <a:ext cx="803880" cy="80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975440" y="381636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38320" y="20743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461360" y="3241800"/>
            <a:ext cx="11113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778800" y="2959200"/>
            <a:ext cx="768240" cy="423720"/>
            <a:chOff x="6778800" y="2959200"/>
            <a:chExt cx="768240" cy="423720"/>
          </a:xfrm>
        </p:grpSpPr>
        <p:sp>
          <p:nvSpPr>
            <p:cNvPr id="947" name=""/>
            <p:cNvSpPr/>
            <p:nvPr/>
          </p:nvSpPr>
          <p:spPr>
            <a:xfrm>
              <a:off x="6778800" y="2959200"/>
              <a:ext cx="76824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12640" y="30250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 flipH="1">
            <a:off x="5992200" y="2738520"/>
            <a:ext cx="3600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060880" y="222264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03560" y="2236680"/>
            <a:ext cx="39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73920" y="5187960"/>
            <a:ext cx="1110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d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4622760" y="3770280"/>
          <a:ext cx="22734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2760" y="3770280"/>
                    <a:ext cx="22734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"/>
          <p:cNvSpPr/>
          <p:nvPr/>
        </p:nvSpPr>
        <p:spPr>
          <a:xfrm flipV="1">
            <a:off x="5918040" y="3645000"/>
            <a:ext cx="24768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flipV="1">
            <a:off x="5103720" y="3580920"/>
            <a:ext cx="123840" cy="4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060880" y="3075120"/>
            <a:ext cx="11415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335480" y="2968560"/>
            <a:ext cx="768240" cy="424080"/>
            <a:chOff x="4335480" y="2968560"/>
            <a:chExt cx="768240" cy="424080"/>
          </a:xfrm>
        </p:grpSpPr>
        <p:sp>
          <p:nvSpPr>
            <p:cNvPr id="959" name=""/>
            <p:cNvSpPr/>
            <p:nvPr/>
          </p:nvSpPr>
          <p:spPr>
            <a:xfrm>
              <a:off x="4335480" y="2968560"/>
              <a:ext cx="768240" cy="42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69320" y="303480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P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31920" y="5626080"/>
            <a:ext cx="836640" cy="812520"/>
            <a:chOff x="331920" y="5626080"/>
            <a:chExt cx="836640" cy="812520"/>
          </a:xfrm>
        </p:grpSpPr>
        <p:sp>
          <p:nvSpPr>
            <p:cNvPr id="962" name=""/>
            <p:cNvSpPr/>
            <p:nvPr/>
          </p:nvSpPr>
          <p:spPr>
            <a:xfrm>
              <a:off x="331920" y="5626080"/>
              <a:ext cx="831960" cy="812520"/>
            </a:xfrm>
            <a:custGeom>
              <a:avLst/>
              <a:gdLst/>
              <a:ahLst/>
              <a:rect l="l" t="t" r="r" b="b"/>
              <a:pathLst>
                <a:path w="436" h="424">
                  <a:moveTo>
                    <a:pt x="0" y="323"/>
                  </a:moveTo>
                  <a:lnTo>
                    <a:pt x="79" y="323"/>
                  </a:lnTo>
                  <a:lnTo>
                    <a:pt x="149" y="340"/>
                  </a:lnTo>
                  <a:lnTo>
                    <a:pt x="149" y="348"/>
                  </a:lnTo>
                  <a:lnTo>
                    <a:pt x="79" y="348"/>
                  </a:lnTo>
                  <a:lnTo>
                    <a:pt x="79" y="365"/>
                  </a:lnTo>
                  <a:lnTo>
                    <a:pt x="27" y="365"/>
                  </a:lnTo>
                  <a:lnTo>
                    <a:pt x="27" y="424"/>
                  </a:lnTo>
                  <a:lnTo>
                    <a:pt x="410" y="424"/>
                  </a:lnTo>
                  <a:lnTo>
                    <a:pt x="410" y="365"/>
                  </a:lnTo>
                  <a:lnTo>
                    <a:pt x="349" y="365"/>
                  </a:lnTo>
                  <a:lnTo>
                    <a:pt x="349" y="348"/>
                  </a:lnTo>
                  <a:lnTo>
                    <a:pt x="288" y="348"/>
                  </a:lnTo>
                  <a:lnTo>
                    <a:pt x="288" y="340"/>
                  </a:lnTo>
                  <a:lnTo>
                    <a:pt x="349" y="323"/>
                  </a:lnTo>
                  <a:lnTo>
                    <a:pt x="436" y="323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2760" y="632592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16320" y="629280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16320" y="6278400"/>
              <a:ext cx="264960" cy="1440"/>
            </a:xfrm>
            <a:custGeom>
              <a:avLst/>
              <a:gdLst/>
              <a:ahLst/>
              <a:rect l="l" t="t" r="r" b="b"/>
              <a:pathLst>
                <a:path w="139" h="0">
                  <a:moveTo>
                    <a:pt x="0" y="0"/>
                  </a:moveTo>
                  <a:lnTo>
                    <a:pt x="1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2760" y="6244920"/>
              <a:ext cx="514440" cy="1800"/>
            </a:xfrm>
            <a:custGeom>
              <a:avLst/>
              <a:gdLst/>
              <a:ahLst/>
              <a:rect l="l" t="t" r="r" b="b"/>
              <a:pathLst>
                <a:path w="270" h="0">
                  <a:moveTo>
                    <a:pt x="0" y="0"/>
                  </a:moveTo>
                  <a:lnTo>
                    <a:pt x="27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5480" y="6343560"/>
              <a:ext cx="115920" cy="14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8880" y="6391080"/>
              <a:ext cx="48960" cy="47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9" y="25"/>
                  </a:moveTo>
                  <a:lnTo>
                    <a:pt x="2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25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480" y="6408720"/>
              <a:ext cx="115920" cy="14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2680" y="634356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2680" y="6357960"/>
              <a:ext cx="731880" cy="1440"/>
            </a:xfrm>
            <a:custGeom>
              <a:avLst/>
              <a:gdLst/>
              <a:ahLst/>
              <a:rect l="l" t="t" r="r" b="b"/>
              <a:pathLst>
                <a:path w="383" h="0">
                  <a:moveTo>
                    <a:pt x="0" y="0"/>
                  </a:move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5480" y="637524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9360" y="6375240"/>
              <a:ext cx="16200" cy="15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1400" y="6408720"/>
              <a:ext cx="17280" cy="298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2160" y="6375240"/>
              <a:ext cx="1728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5280" y="6408720"/>
              <a:ext cx="15840" cy="298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8760" y="6375240"/>
              <a:ext cx="1764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8" name="" descr=""/>
            <p:cNvPicPr/>
            <p:nvPr/>
          </p:nvPicPr>
          <p:blipFill>
            <a:blip r:embed="rId4">
              <a:lum bright="10000"/>
            </a:blip>
            <a:stretch/>
          </p:blipFill>
          <p:spPr>
            <a:xfrm>
              <a:off x="382680" y="5681520"/>
              <a:ext cx="7858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358920" y="5681520"/>
              <a:ext cx="785880" cy="54756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155600" y="2235240"/>
            <a:ext cx="6701040" cy="3390840"/>
            <a:chOff x="1155600" y="2235240"/>
            <a:chExt cx="6701040" cy="3390840"/>
          </a:xfrm>
        </p:grpSpPr>
        <p:sp>
          <p:nvSpPr>
            <p:cNvPr id="981" name=""/>
            <p:cNvSpPr/>
            <p:nvPr/>
          </p:nvSpPr>
          <p:spPr>
            <a:xfrm>
              <a:off x="2717640" y="4915080"/>
              <a:ext cx="749520" cy="685800"/>
            </a:xfrm>
            <a:custGeom>
              <a:avLst/>
              <a:gdLst/>
              <a:ahLst/>
              <a:rect l="l" t="t" r="r" b="b"/>
              <a:pathLst>
                <a:path w="512" h="424">
                  <a:moveTo>
                    <a:pt x="0" y="0"/>
                  </a:moveTo>
                  <a:cubicBezTo>
                    <a:pt x="116" y="44"/>
                    <a:pt x="233" y="88"/>
                    <a:pt x="312" y="128"/>
                  </a:cubicBezTo>
                  <a:cubicBezTo>
                    <a:pt x="390" y="167"/>
                    <a:pt x="438" y="190"/>
                    <a:pt x="472" y="240"/>
                  </a:cubicBezTo>
                  <a:cubicBezTo>
                    <a:pt x="505" y="289"/>
                    <a:pt x="503" y="394"/>
                    <a:pt x="512" y="424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31840" y="4826160"/>
              <a:ext cx="1097280" cy="799920"/>
            </a:xfrm>
            <a:custGeom>
              <a:avLst/>
              <a:gdLst/>
              <a:ahLst/>
              <a:rect l="l" t="t" r="r" b="b"/>
              <a:pathLst>
                <a:path w="651" h="432">
                  <a:moveTo>
                    <a:pt x="0" y="0"/>
                  </a:moveTo>
                  <a:cubicBezTo>
                    <a:pt x="94" y="36"/>
                    <a:pt x="189" y="72"/>
                    <a:pt x="288" y="104"/>
                  </a:cubicBezTo>
                  <a:cubicBezTo>
                    <a:pt x="386" y="135"/>
                    <a:pt x="532" y="137"/>
                    <a:pt x="592" y="192"/>
                  </a:cubicBezTo>
                  <a:cubicBezTo>
                    <a:pt x="651" y="246"/>
                    <a:pt x="638" y="391"/>
                    <a:pt x="648" y="43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2235240"/>
              <a:ext cx="6701040" cy="3103560"/>
            </a:xfrm>
            <a:custGeom>
              <a:avLst/>
              <a:gdLst/>
              <a:ahLst/>
              <a:rect l="l" t="t" r="r" b="b"/>
              <a:pathLst>
                <a:path w="4221" h="1955">
                  <a:moveTo>
                    <a:pt x="0" y="1544"/>
                  </a:moveTo>
                  <a:cubicBezTo>
                    <a:pt x="496" y="1618"/>
                    <a:pt x="992" y="1693"/>
                    <a:pt x="1424" y="1760"/>
                  </a:cubicBezTo>
                  <a:cubicBezTo>
                    <a:pt x="1855" y="1826"/>
                    <a:pt x="2173" y="1942"/>
                    <a:pt x="2592" y="1944"/>
                  </a:cubicBezTo>
                  <a:cubicBezTo>
                    <a:pt x="3010" y="1945"/>
                    <a:pt x="3668" y="1955"/>
                    <a:pt x="3936" y="1768"/>
                  </a:cubicBezTo>
                  <a:cubicBezTo>
                    <a:pt x="4203" y="1580"/>
                    <a:pt x="4178" y="1065"/>
                    <a:pt x="4200" y="816"/>
                  </a:cubicBezTo>
                  <a:cubicBezTo>
                    <a:pt x="4221" y="566"/>
                    <a:pt x="4177" y="383"/>
                    <a:pt x="4064" y="272"/>
                  </a:cubicBezTo>
                  <a:cubicBezTo>
                    <a:pt x="3950" y="160"/>
                    <a:pt x="4016" y="172"/>
                    <a:pt x="3520" y="144"/>
                  </a:cubicBezTo>
                  <a:cubicBezTo>
                    <a:pt x="3024" y="116"/>
                    <a:pt x="1616" y="0"/>
                    <a:pt x="1088" y="104"/>
                  </a:cubicBezTo>
                  <a:cubicBezTo>
                    <a:pt x="560" y="208"/>
                    <a:pt x="474" y="657"/>
                    <a:pt x="352" y="768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42280" y="3479760"/>
              <a:ext cx="342720" cy="520920"/>
            </a:xfrm>
            <a:custGeom>
              <a:avLst/>
              <a:gdLst/>
              <a:ahLst/>
              <a:rect l="l" t="t" r="r" b="b"/>
              <a:pathLst>
                <a:path w="216" h="328">
                  <a:moveTo>
                    <a:pt x="216" y="328"/>
                  </a:moveTo>
                  <a:cubicBezTo>
                    <a:pt x="185" y="227"/>
                    <a:pt x="155" y="126"/>
                    <a:pt x="120" y="72"/>
                  </a:cubicBezTo>
                  <a:cubicBezTo>
                    <a:pt x="84" y="17"/>
                    <a:pt x="19" y="11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BDA1-AB26-4F8C-89D1-D1E33EEFA6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Transfer and “Spinoff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P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Systems Grid (climate model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iser Permanent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ustion Corridor (diesel model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isse (MEMS/Supern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Log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ng used by many network and grid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C787-2080-4B4F-9746-A53EDE19FD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Transfer and “Spinoffs” (conclud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GS arch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-based access to digital earth-scienc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eway to the Earth: Ohio Pilot (automatic dissemination of Landsat image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a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D (Dissemination of VRML terrain datasets to warfigh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Earth (fast indexing of geo-data, multimodal capabilities, and education appl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scape plug-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91F0-E14E-4378-8F4B-08C1006DD8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Francisco Bay ar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9900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lo P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dleton (low resolu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9900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 Pendleton (high resolu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spcBef>
                <a:spcPts val="400"/>
              </a:spcBef>
              <a:buClr>
                <a:srgbClr val="99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guna B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sem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re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7EAE-1388-4321-B477-365F9052A4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GIC scenario is based on applications such as mission planning and crisis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pplications ne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, process, and display real-time and/or archived datasets on-the-f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se multiple types of data (e.g., weather, terr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able to transfer large volumes of data for interactive visu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 range of user capabilities (e.g., command center,  mobile u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IC focuses on a terrain visualization application that uses geo-referenced datas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9623-B8FD-48A6-9F52-6AA545CCE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an information system that provides application users with fast, interactive access to very large volumes of remote data distributed over a wide geographic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monstrate the above capability in the context of a 3-D terrain visualization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EE41-E37B-48C7-8ADC-AA08248ED4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IC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. for National Research Initi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GS/EROS Data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 of Kan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EB59-BC2B-4FB3-B3A1-7B0FB9CA2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inguishing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inform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esigned from the outset to work over a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ation to network conditions and to system 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limit on size of viewable data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restrictions on location of data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sion of multiple data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 real-time visualization of terrain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BDAA-CC85-4704-9236-83A33F657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IC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peed inter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parallel storage system (DP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for terrain dataset prep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interactive terrain visualization application: Terra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1DC5-1E16-4AAA-9F43-7CE09D21C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930320" y="3595680"/>
            <a:ext cx="6111720" cy="1614600"/>
            <a:chOff x="1930320" y="3595680"/>
            <a:chExt cx="6111720" cy="1614600"/>
          </a:xfrm>
        </p:grpSpPr>
        <p:grpSp>
          <p:nvGrpSpPr>
            <p:cNvPr id="116" name=""/>
            <p:cNvGrpSpPr/>
            <p:nvPr/>
          </p:nvGrpSpPr>
          <p:grpSpPr>
            <a:xfrm>
              <a:off x="6578640" y="3595680"/>
              <a:ext cx="1463400" cy="534600"/>
              <a:chOff x="6578640" y="3595680"/>
              <a:chExt cx="1463400" cy="5346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273800" y="3595680"/>
                <a:ext cx="768240" cy="338040"/>
                <a:chOff x="7273800" y="3595680"/>
                <a:chExt cx="768240" cy="338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273800" y="3595680"/>
                  <a:ext cx="768240" cy="30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07640" y="3596400"/>
                  <a:ext cx="73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P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 flipV="1">
                <a:off x="6578640" y="3933360"/>
                <a:ext cx="689040" cy="1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930320" y="4656240"/>
              <a:ext cx="1244520" cy="554040"/>
              <a:chOff x="1930320" y="4656240"/>
              <a:chExt cx="1244520" cy="55404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2438280" y="4656240"/>
                <a:ext cx="736560" cy="27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1930320" y="4786200"/>
                <a:ext cx="768240" cy="424080"/>
                <a:chOff x="1930320" y="4786200"/>
                <a:chExt cx="768240" cy="424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30320" y="4786200"/>
                  <a:ext cx="768240" cy="424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64160" y="4852440"/>
                  <a:ext cx="73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P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2332080" y="1801800"/>
            <a:ext cx="2401920" cy="4360680"/>
            <a:chOff x="2332080" y="1801800"/>
            <a:chExt cx="2401920" cy="4360680"/>
          </a:xfrm>
        </p:grpSpPr>
        <p:grpSp>
          <p:nvGrpSpPr>
            <p:cNvPr id="127" name=""/>
            <p:cNvGrpSpPr/>
            <p:nvPr/>
          </p:nvGrpSpPr>
          <p:grpSpPr>
            <a:xfrm>
              <a:off x="3965760" y="5137200"/>
              <a:ext cx="768240" cy="1025280"/>
              <a:chOff x="3965760" y="5137200"/>
              <a:chExt cx="768240" cy="1025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965760" y="5738760"/>
                <a:ext cx="768240" cy="423720"/>
                <a:chOff x="3965760" y="5738760"/>
                <a:chExt cx="768240" cy="423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965760" y="5738760"/>
                  <a:ext cx="768240" cy="423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99600" y="5804640"/>
                  <a:ext cx="73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P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flipH="1">
                <a:off x="4389480" y="5137200"/>
                <a:ext cx="152640" cy="60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332080" y="1801800"/>
              <a:ext cx="1371600" cy="1336680"/>
              <a:chOff x="2332080" y="1801800"/>
              <a:chExt cx="1371600" cy="1336680"/>
            </a:xfrm>
          </p:grpSpPr>
          <p:sp>
            <p:nvSpPr>
              <p:cNvPr id="133" name=""/>
              <p:cNvSpPr/>
              <p:nvPr/>
            </p:nvSpPr>
            <p:spPr>
              <a:xfrm>
                <a:off x="2941920" y="2389320"/>
                <a:ext cx="761760" cy="74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332080" y="1801800"/>
                <a:ext cx="768240" cy="423720"/>
                <a:chOff x="2332080" y="1801800"/>
                <a:chExt cx="768240" cy="423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332080" y="1801800"/>
                  <a:ext cx="768240" cy="423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365920" y="1867680"/>
                  <a:ext cx="73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P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" name=""/>
          <p:cNvGrpSpPr/>
          <p:nvPr/>
        </p:nvGrpSpPr>
        <p:grpSpPr>
          <a:xfrm>
            <a:off x="2698920" y="2919240"/>
            <a:ext cx="3900960" cy="2326320"/>
            <a:chOff x="2698920" y="2919240"/>
            <a:chExt cx="3900960" cy="2326320"/>
          </a:xfrm>
        </p:grpSpPr>
        <p:sp>
          <p:nvSpPr>
            <p:cNvPr id="138" name=""/>
            <p:cNvSpPr/>
            <p:nvPr/>
          </p:nvSpPr>
          <p:spPr>
            <a:xfrm>
              <a:off x="2698920" y="3093480"/>
              <a:ext cx="1950480" cy="12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26320" y="2919240"/>
              <a:ext cx="1950480" cy="12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840" y="299340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9400" y="363528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0600" y="397692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8920" y="363528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6480" y="3093480"/>
              <a:ext cx="1950480" cy="12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5880" y="333540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2680" y="3678120"/>
              <a:ext cx="1950480" cy="126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3680" y="3093480"/>
              <a:ext cx="1950480" cy="12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90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ic Configu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8040" y="359640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37160" y="4441320"/>
            <a:ext cx="2136600" cy="1387440"/>
            <a:chOff x="5537160" y="4441320"/>
            <a:chExt cx="2136600" cy="1387440"/>
          </a:xfrm>
        </p:grpSpPr>
        <p:grpSp>
          <p:nvGrpSpPr>
            <p:cNvPr id="151" name=""/>
            <p:cNvGrpSpPr/>
            <p:nvPr/>
          </p:nvGrpSpPr>
          <p:grpSpPr>
            <a:xfrm>
              <a:off x="6435360" y="4441320"/>
              <a:ext cx="1238400" cy="1387440"/>
              <a:chOff x="6435360" y="4441320"/>
              <a:chExt cx="1238400" cy="13874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673680" y="4746600"/>
                <a:ext cx="768600" cy="1082160"/>
                <a:chOff x="6673680" y="4746600"/>
                <a:chExt cx="768600" cy="10821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763320" y="4810320"/>
                  <a:ext cx="678960" cy="1018440"/>
                  <a:chOff x="6763320" y="4810320"/>
                  <a:chExt cx="678960" cy="10184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6763320" y="4810320"/>
                    <a:ext cx="486720" cy="10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1272">
                        <a:moveTo>
                          <a:pt x="0" y="32"/>
                        </a:moveTo>
                        <a:lnTo>
                          <a:pt x="608" y="0"/>
                        </a:lnTo>
                        <a:lnTo>
                          <a:pt x="608" y="1272"/>
                        </a:lnTo>
                        <a:lnTo>
                          <a:pt x="0" y="1208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250040" y="4810320"/>
                    <a:ext cx="192240" cy="10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272">
                        <a:moveTo>
                          <a:pt x="0" y="0"/>
                        </a:moveTo>
                        <a:lnTo>
                          <a:pt x="240" y="56"/>
                        </a:lnTo>
                        <a:lnTo>
                          <a:pt x="240" y="1120"/>
                        </a:lnTo>
                        <a:lnTo>
                          <a:pt x="0" y="12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6763320" y="4842360"/>
                  <a:ext cx="678960" cy="38160"/>
                </a:xfrm>
                <a:custGeom>
                  <a:avLst/>
                  <a:gdLst/>
                  <a:ahLst/>
                  <a:rect l="l" t="t" r="r" b="b"/>
                  <a:pathLst>
                    <a:path w="848" h="48">
                      <a:moveTo>
                        <a:pt x="848" y="48"/>
                      </a:moveTo>
                      <a:lnTo>
                        <a:pt x="608" y="0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218000" y="4848840"/>
                  <a:ext cx="720" cy="9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82400" y="4867920"/>
                  <a:ext cx="720" cy="90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49080" y="5194800"/>
                  <a:ext cx="83160" cy="5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42600" y="5483160"/>
                  <a:ext cx="89640" cy="63720"/>
                </a:xfrm>
                <a:custGeom>
                  <a:avLst/>
                  <a:gdLst/>
                  <a:ahLst/>
                  <a:rect l="l" t="t" r="r" b="b"/>
                  <a:pathLst>
                    <a:path w="112" h="80">
                      <a:moveTo>
                        <a:pt x="0" y="0"/>
                      </a:moveTo>
                      <a:lnTo>
                        <a:pt x="112" y="8"/>
                      </a:lnTo>
                      <a:lnTo>
                        <a:pt x="112" y="80"/>
                      </a:lnTo>
                      <a:lnTo>
                        <a:pt x="0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49080" y="5489640"/>
                  <a:ext cx="76680" cy="51120"/>
                </a:xfrm>
                <a:custGeom>
                  <a:avLst/>
                  <a:gdLst/>
                  <a:ahLst/>
                  <a:rect l="l" t="t" r="r" b="b"/>
                  <a:pathLst>
                    <a:path w="96" h="64">
                      <a:moveTo>
                        <a:pt x="0" y="0"/>
                      </a:moveTo>
                      <a:lnTo>
                        <a:pt x="96" y="8"/>
                      </a:lnTo>
                      <a:lnTo>
                        <a:pt x="96" y="64"/>
                      </a:lnTo>
                      <a:lnTo>
                        <a:pt x="0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23520" y="5566320"/>
                  <a:ext cx="121320" cy="32040"/>
                </a:xfrm>
                <a:custGeom>
                  <a:avLst/>
                  <a:gdLst/>
                  <a:ahLst/>
                  <a:rect l="l" t="t" r="r" b="b"/>
                  <a:pathLst>
                    <a:path w="152" h="40">
                      <a:moveTo>
                        <a:pt x="0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23520" y="5271480"/>
                  <a:ext cx="121320" cy="19080"/>
                </a:xfrm>
                <a:custGeom>
                  <a:avLst/>
                  <a:gdLst/>
                  <a:ahLst/>
                  <a:rect l="l" t="t" r="r" b="b"/>
                  <a:pathLst>
                    <a:path w="152" h="24">
                      <a:moveTo>
                        <a:pt x="0" y="0"/>
                      </a:moveTo>
                      <a:lnTo>
                        <a:pt x="152" y="8"/>
                      </a:lnTo>
                      <a:lnTo>
                        <a:pt x="152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19280" y="5278320"/>
                  <a:ext cx="7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55560" y="5201280"/>
                  <a:ext cx="7020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25760" y="5579280"/>
                  <a:ext cx="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166880" y="4816800"/>
                  <a:ext cx="12600" cy="25560"/>
                </a:xfrm>
                <a:custGeom>
                  <a:avLst/>
                  <a:gdLst>
                    <a:gd name="textAreaLeft" fmla="*/ 1800 w 12600"/>
                    <a:gd name="textAreaRight" fmla="*/ 10800 w 12600"/>
                    <a:gd name="textAreaTop" fmla="*/ 1800 h 25560"/>
                    <a:gd name="textAreaBottom" fmla="*/ 23760 h 25560"/>
                  </a:gdLst>
                  <a:ahLst/>
                  <a:rect l="textAreaLeft" t="textAreaTop" r="textAreaRight" b="textAreaBottom"/>
                  <a:pathLst>
                    <a:path w="21600" h="4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2400"/>
                      </a:lnTo>
                      <a:arcTo wR="10800" hR="10800" stAng="10800000" swAng="-5400000"/>
                      <a:lnTo>
                        <a:pt x="10800" y="4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166880" y="4816800"/>
                  <a:ext cx="19080" cy="31680"/>
                </a:xfrm>
                <a:custGeom>
                  <a:avLst/>
                  <a:gdLst>
                    <a:gd name="textAreaLeft" fmla="*/ 1800 w 19080"/>
                    <a:gd name="textAreaRight" fmla="*/ 17280 w 19080"/>
                    <a:gd name="textAreaTop" fmla="*/ 1800 h 31680"/>
                    <a:gd name="textAreaBottom" fmla="*/ 29880 h 31680"/>
                  </a:gdLst>
                  <a:ahLst/>
                  <a:rect l="textAreaLeft" t="textAreaTop" r="textAreaRight" b="textAreaBottom"/>
                  <a:pathLst>
                    <a:path w="21600" h="35600">
                      <a:moveTo>
                        <a:pt x="7200" y="0"/>
                      </a:moveTo>
                      <a:arcTo wR="7200" hR="7200" stAng="16200000" swAng="-5400000"/>
                      <a:lnTo>
                        <a:pt x="0" y="28400"/>
                      </a:lnTo>
                      <a:arcTo wR="7200" hR="7200" stAng="10800000" swAng="-5400000"/>
                      <a:lnTo>
                        <a:pt x="14400" y="35600"/>
                      </a:lnTo>
                      <a:arcTo wR="7200" hR="7200" stAng="5400000" swAng="-5400000"/>
                      <a:lnTo>
                        <a:pt x="21600" y="7200"/>
                      </a:lnTo>
                      <a:arcTo wR="7200" hR="72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66880" y="4816800"/>
                  <a:ext cx="12600" cy="25560"/>
                </a:xfrm>
                <a:custGeom>
                  <a:avLst/>
                  <a:gdLst>
                    <a:gd name="textAreaLeft" fmla="*/ 1800 w 12600"/>
                    <a:gd name="textAreaRight" fmla="*/ 10800 w 12600"/>
                    <a:gd name="textAreaTop" fmla="*/ 1800 h 25560"/>
                    <a:gd name="textAreaBottom" fmla="*/ 23760 h 25560"/>
                  </a:gdLst>
                  <a:ahLst/>
                  <a:rect l="textAreaLeft" t="textAreaTop" r="textAreaRight" b="textAreaBottom"/>
                  <a:pathLst>
                    <a:path w="21600" h="4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2400"/>
                      </a:lnTo>
                      <a:arcTo wR="10800" hR="10800" stAng="10800000" swAng="-5400000"/>
                      <a:lnTo>
                        <a:pt x="10800" y="4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166880" y="4816800"/>
                  <a:ext cx="19080" cy="31680"/>
                </a:xfrm>
                <a:custGeom>
                  <a:avLst/>
                  <a:gdLst>
                    <a:gd name="textAreaLeft" fmla="*/ 1800 w 19080"/>
                    <a:gd name="textAreaRight" fmla="*/ 17280 w 19080"/>
                    <a:gd name="textAreaTop" fmla="*/ 1800 h 31680"/>
                    <a:gd name="textAreaBottom" fmla="*/ 29880 h 31680"/>
                  </a:gdLst>
                  <a:ahLst/>
                  <a:rect l="textAreaLeft" t="textAreaTop" r="textAreaRight" b="textAreaBottom"/>
                  <a:pathLst>
                    <a:path w="21600" h="35600">
                      <a:moveTo>
                        <a:pt x="7200" y="0"/>
                      </a:moveTo>
                      <a:arcTo wR="7200" hR="7200" stAng="16200000" swAng="-5400000"/>
                      <a:lnTo>
                        <a:pt x="0" y="28400"/>
                      </a:lnTo>
                      <a:arcTo wR="7200" hR="7200" stAng="10800000" swAng="-5400000"/>
                      <a:lnTo>
                        <a:pt x="14400" y="35600"/>
                      </a:lnTo>
                      <a:arcTo wR="7200" hR="7200" stAng="5400000" swAng="-5400000"/>
                      <a:lnTo>
                        <a:pt x="21600" y="7200"/>
                      </a:lnTo>
                      <a:arcTo wR="7200" hR="72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949080" y="4906440"/>
                  <a:ext cx="8964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23520" y="4983480"/>
                  <a:ext cx="121320" cy="19080"/>
                </a:xfrm>
                <a:custGeom>
                  <a:avLst/>
                  <a:gdLst/>
                  <a:ahLst/>
                  <a:rect l="l" t="t" r="r" b="b"/>
                  <a:pathLst>
                    <a:path w="152" h="24">
                      <a:moveTo>
                        <a:pt x="0" y="24"/>
                      </a:moveTo>
                      <a:lnTo>
                        <a:pt x="152" y="24"/>
                      </a:lnTo>
                      <a:lnTo>
                        <a:pt x="152" y="0"/>
                      </a:lnTo>
                      <a:lnTo>
                        <a:pt x="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019280" y="4989600"/>
                  <a:ext cx="72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955560" y="4912920"/>
                  <a:ext cx="7020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782400" y="4848840"/>
                  <a:ext cx="435240" cy="275400"/>
                </a:xfrm>
                <a:custGeom>
                  <a:avLst/>
                  <a:gdLst/>
                  <a:ahLst/>
                  <a:rect l="l" t="t" r="r" b="b"/>
                  <a:pathLst>
                    <a:path w="544" h="344">
                      <a:moveTo>
                        <a:pt x="0" y="24"/>
                      </a:moveTo>
                      <a:lnTo>
                        <a:pt x="544" y="0"/>
                      </a:lnTo>
                      <a:lnTo>
                        <a:pt x="544" y="344"/>
                      </a:lnTo>
                      <a:lnTo>
                        <a:pt x="0" y="336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121880" y="4970520"/>
                  <a:ext cx="95760" cy="128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lnTo>
                        <a:pt x="120" y="8"/>
                      </a:lnTo>
                      <a:lnTo>
                        <a:pt x="120" y="152"/>
                      </a:lnTo>
                      <a:lnTo>
                        <a:pt x="0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192440" y="5047560"/>
                  <a:ext cx="25560" cy="7668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0" y="80"/>
                      </a:lnTo>
                      <a:lnTo>
                        <a:pt x="32" y="9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121880" y="4938480"/>
                  <a:ext cx="95760" cy="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33520" y="4752720"/>
                  <a:ext cx="243360" cy="33300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32" y="416"/>
                      </a:moveTo>
                      <a:lnTo>
                        <a:pt x="48" y="272"/>
                      </a:lnTo>
                      <a:lnTo>
                        <a:pt x="32" y="128"/>
                      </a:lnTo>
                      <a:lnTo>
                        <a:pt x="0" y="48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84"/>
                      </a:lnTo>
                      <a:lnTo>
                        <a:pt x="32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820920" y="4746600"/>
                  <a:ext cx="243000" cy="33300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40" y="416"/>
                      </a:moveTo>
                      <a:lnTo>
                        <a:pt x="48" y="280"/>
                      </a:lnTo>
                      <a:lnTo>
                        <a:pt x="32" y="136"/>
                      </a:lnTo>
                      <a:lnTo>
                        <a:pt x="0" y="56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92"/>
                      </a:lnTo>
                      <a:lnTo>
                        <a:pt x="40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07960" y="4746600"/>
                  <a:ext cx="243360" cy="33300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32" y="416"/>
                      </a:moveTo>
                      <a:lnTo>
                        <a:pt x="48" y="280"/>
                      </a:lnTo>
                      <a:lnTo>
                        <a:pt x="32" y="136"/>
                      </a:lnTo>
                      <a:lnTo>
                        <a:pt x="0" y="56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92"/>
                      </a:lnTo>
                      <a:lnTo>
                        <a:pt x="32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6673680" y="4842360"/>
                  <a:ext cx="543960" cy="903240"/>
                  <a:chOff x="6673680" y="4842360"/>
                  <a:chExt cx="543960" cy="9032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6782400" y="5149800"/>
                    <a:ext cx="43524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360">
                        <a:moveTo>
                          <a:pt x="0" y="0"/>
                        </a:moveTo>
                        <a:lnTo>
                          <a:pt x="544" y="0"/>
                        </a:lnTo>
                        <a:lnTo>
                          <a:pt x="544" y="360"/>
                        </a:lnTo>
                        <a:lnTo>
                          <a:pt x="0" y="3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782400" y="5438160"/>
                    <a:ext cx="43524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384">
                        <a:moveTo>
                          <a:pt x="0" y="0"/>
                        </a:moveTo>
                        <a:lnTo>
                          <a:pt x="544" y="40"/>
                        </a:lnTo>
                        <a:lnTo>
                          <a:pt x="544" y="384"/>
                        </a:lnTo>
                        <a:lnTo>
                          <a:pt x="0" y="3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673680" y="4842360"/>
                    <a:ext cx="44820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60">
                        <a:moveTo>
                          <a:pt x="0" y="32"/>
                        </a:moveTo>
                        <a:lnTo>
                          <a:pt x="560" y="0"/>
                        </a:lnTo>
                        <a:lnTo>
                          <a:pt x="560" y="360"/>
                        </a:lnTo>
                        <a:lnTo>
                          <a:pt x="0" y="36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7128360" y="4842360"/>
                  <a:ext cx="6120" cy="288000"/>
                </a:xfrm>
                <a:custGeom>
                  <a:avLst/>
                  <a:gdLst/>
                  <a:ahLst/>
                  <a:rect l="l" t="t" r="r" b="b"/>
                  <a:pathLst>
                    <a:path w="8" h="360">
                      <a:moveTo>
                        <a:pt x="0" y="0"/>
                      </a:moveTo>
                      <a:lnTo>
                        <a:pt x="8" y="24"/>
                      </a:lnTo>
                      <a:lnTo>
                        <a:pt x="8" y="352"/>
                      </a:lnTo>
                      <a:lnTo>
                        <a:pt x="0" y="3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95360" y="4970520"/>
                  <a:ext cx="147240" cy="19080"/>
                </a:xfrm>
                <a:custGeom>
                  <a:avLst/>
                  <a:gdLst/>
                  <a:ahLst/>
                  <a:rect l="l" t="t" r="r" b="b"/>
                  <a:pathLst>
                    <a:path w="184" h="24">
                      <a:moveTo>
                        <a:pt x="0" y="8"/>
                      </a:moveTo>
                      <a:lnTo>
                        <a:pt x="152" y="0"/>
                      </a:lnTo>
                      <a:lnTo>
                        <a:pt x="184" y="8"/>
                      </a:lnTo>
                      <a:lnTo>
                        <a:pt x="184" y="24"/>
                      </a:lnTo>
                      <a:lnTo>
                        <a:pt x="152" y="24"/>
                      </a:lnTo>
                      <a:lnTo>
                        <a:pt x="0" y="2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17040" y="4977000"/>
                  <a:ext cx="7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27400" y="4887360"/>
                  <a:ext cx="102240" cy="70200"/>
                </a:xfrm>
                <a:custGeom>
                  <a:avLst/>
                  <a:gdLst/>
                  <a:ahLst/>
                  <a:rect l="l" t="t" r="r" b="b"/>
                  <a:pathLst>
                    <a:path w="128" h="88">
                      <a:moveTo>
                        <a:pt x="0" y="8"/>
                      </a:moveTo>
                      <a:lnTo>
                        <a:pt x="128" y="0"/>
                      </a:lnTo>
                      <a:lnTo>
                        <a:pt x="128" y="80"/>
                      </a:lnTo>
                      <a:lnTo>
                        <a:pt x="0" y="8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33520" y="4893840"/>
                  <a:ext cx="89640" cy="64080"/>
                </a:xfrm>
                <a:custGeom>
                  <a:avLst/>
                  <a:gdLst/>
                  <a:ahLst/>
                  <a:rect l="l" t="t" r="r" b="b"/>
                  <a:pathLst>
                    <a:path w="112" h="80">
                      <a:moveTo>
                        <a:pt x="0" y="8"/>
                      </a:moveTo>
                      <a:lnTo>
                        <a:pt x="112" y="0"/>
                      </a:lnTo>
                      <a:lnTo>
                        <a:pt x="112" y="72"/>
                      </a:lnTo>
                      <a:lnTo>
                        <a:pt x="0" y="8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6435360" y="4441320"/>
                <a:ext cx="123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osi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537160" y="4906800"/>
              <a:ext cx="1225440" cy="63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1601280"/>
            <a:ext cx="4419360" cy="3389400"/>
            <a:chOff x="468360" y="1601280"/>
            <a:chExt cx="4419360" cy="3389400"/>
          </a:xfrm>
        </p:grpSpPr>
        <p:grpSp>
          <p:nvGrpSpPr>
            <p:cNvPr id="194" name=""/>
            <p:cNvGrpSpPr/>
            <p:nvPr/>
          </p:nvGrpSpPr>
          <p:grpSpPr>
            <a:xfrm>
              <a:off x="3714840" y="1601280"/>
              <a:ext cx="1172880" cy="1432440"/>
              <a:chOff x="3714840" y="1601280"/>
              <a:chExt cx="1172880" cy="1432440"/>
            </a:xfrm>
          </p:grpSpPr>
          <p:sp>
            <p:nvSpPr>
              <p:cNvPr id="195" name=""/>
              <p:cNvSpPr/>
              <p:nvPr/>
            </p:nvSpPr>
            <p:spPr>
              <a:xfrm>
                <a:off x="4452840" y="2641680"/>
                <a:ext cx="3366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714840" y="1601280"/>
                <a:ext cx="1172880" cy="1211040"/>
                <a:chOff x="3714840" y="1601280"/>
                <a:chExt cx="1172880" cy="121104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4025880" y="1884240"/>
                  <a:ext cx="609480" cy="928080"/>
                  <a:chOff x="4025880" y="1884240"/>
                  <a:chExt cx="609480" cy="928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4025880" y="1899720"/>
                    <a:ext cx="5904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517">
                        <a:moveTo>
                          <a:pt x="177" y="36"/>
                        </a:moveTo>
                        <a:lnTo>
                          <a:pt x="352" y="12"/>
                        </a:lnTo>
                        <a:lnTo>
                          <a:pt x="372" y="14"/>
                        </a:lnTo>
                        <a:lnTo>
                          <a:pt x="372" y="0"/>
                        </a:lnTo>
                        <a:lnTo>
                          <a:pt x="177" y="26"/>
                        </a:lnTo>
                        <a:lnTo>
                          <a:pt x="0" y="16"/>
                        </a:lnTo>
                        <a:lnTo>
                          <a:pt x="0" y="512"/>
                        </a:lnTo>
                        <a:lnTo>
                          <a:pt x="24" y="517"/>
                        </a:lnTo>
                        <a:lnTo>
                          <a:pt x="24" y="91"/>
                        </a:lnTo>
                        <a:lnTo>
                          <a:pt x="26" y="88"/>
                        </a:lnTo>
                        <a:lnTo>
                          <a:pt x="26" y="71"/>
                        </a:lnTo>
                        <a:lnTo>
                          <a:pt x="24" y="71"/>
                        </a:lnTo>
                        <a:lnTo>
                          <a:pt x="24" y="33"/>
                        </a:lnTo>
                        <a:lnTo>
                          <a:pt x="53" y="26"/>
                        </a:lnTo>
                        <a:lnTo>
                          <a:pt x="177" y="36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063680" y="1918800"/>
                    <a:ext cx="5716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185" y="36"/>
                        </a:moveTo>
                        <a:lnTo>
                          <a:pt x="0" y="21"/>
                        </a:lnTo>
                        <a:lnTo>
                          <a:pt x="29" y="14"/>
                        </a:lnTo>
                        <a:lnTo>
                          <a:pt x="153" y="24"/>
                        </a:lnTo>
                        <a:lnTo>
                          <a:pt x="328" y="0"/>
                        </a:lnTo>
                        <a:lnTo>
                          <a:pt x="360" y="2"/>
                        </a:lnTo>
                        <a:lnTo>
                          <a:pt x="185" y="36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>
                    <a:off x="4401720" y="2450520"/>
                    <a:ext cx="220680" cy="136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4401720" y="2466360"/>
                    <a:ext cx="220680" cy="136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4401720" y="2477520"/>
                    <a:ext cx="220680" cy="139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4401720" y="2491920"/>
                    <a:ext cx="220680" cy="144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>
                    <a:off x="4401720" y="2504520"/>
                    <a:ext cx="220680" cy="1472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4401720" y="2518920"/>
                    <a:ext cx="220680" cy="14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4402080" y="2530080"/>
                    <a:ext cx="225360" cy="15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4401720" y="2545920"/>
                    <a:ext cx="220680" cy="1551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>
                    <a:off x="4402080" y="2559960"/>
                    <a:ext cx="225360" cy="156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4401720" y="2576160"/>
                    <a:ext cx="220680" cy="1551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041720" y="1941120"/>
                    <a:ext cx="190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0" y="0"/>
                        </a:moveTo>
                        <a:lnTo>
                          <a:pt x="12" y="2"/>
                        </a:lnTo>
                        <a:lnTo>
                          <a:pt x="12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324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597200" y="2625120"/>
                    <a:ext cx="190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4" y="5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2" y="7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597200" y="2592000"/>
                    <a:ext cx="223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1">
                        <a:moveTo>
                          <a:pt x="0" y="31"/>
                        </a:moveTo>
                        <a:lnTo>
                          <a:pt x="0" y="2"/>
                        </a:lnTo>
                        <a:lnTo>
                          <a:pt x="14" y="0"/>
                        </a:lnTo>
                        <a:lnTo>
                          <a:pt x="14" y="26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597200" y="2584080"/>
                    <a:ext cx="190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5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9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425840" y="2750760"/>
                    <a:ext cx="27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0" y="12"/>
                        </a:move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425840" y="2709360"/>
                    <a:ext cx="27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0" y="38"/>
                        </a:moveTo>
                        <a:lnTo>
                          <a:pt x="0" y="5"/>
                        </a:lnTo>
                        <a:lnTo>
                          <a:pt x="17" y="0"/>
                        </a:lnTo>
                        <a:lnTo>
                          <a:pt x="17" y="31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425840" y="2698200"/>
                    <a:ext cx="270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0" y="12"/>
                        </a:moveTo>
                        <a:lnTo>
                          <a:pt x="2" y="9"/>
                        </a:lnTo>
                        <a:lnTo>
                          <a:pt x="7" y="7"/>
                        </a:lnTo>
                        <a:lnTo>
                          <a:pt x="14" y="2"/>
                        </a:lnTo>
                        <a:lnTo>
                          <a:pt x="17" y="0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037040" y="2309400"/>
                    <a:ext cx="26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10"/>
                        </a:moveTo>
                        <a:lnTo>
                          <a:pt x="15" y="3"/>
                        </a:lnTo>
                        <a:lnTo>
                          <a:pt x="7" y="0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3" y="22"/>
                        </a:lnTo>
                        <a:lnTo>
                          <a:pt x="10" y="24"/>
                        </a:lnTo>
                        <a:lnTo>
                          <a:pt x="15" y="20"/>
                        </a:lnTo>
                        <a:lnTo>
                          <a:pt x="17" y="10"/>
                        </a:lnTo>
                        <a:lnTo>
                          <a:pt x="17" y="10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044960" y="2317320"/>
                    <a:ext cx="10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7" y="7"/>
                        </a:moveTo>
                        <a:lnTo>
                          <a:pt x="7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7" y="10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041720" y="232848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037040" y="2358360"/>
                    <a:ext cx="26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12"/>
                        </a:moveTo>
                        <a:lnTo>
                          <a:pt x="15" y="3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0" y="15"/>
                        </a:lnTo>
                        <a:lnTo>
                          <a:pt x="3" y="22"/>
                        </a:lnTo>
                        <a:lnTo>
                          <a:pt x="10" y="24"/>
                        </a:lnTo>
                        <a:lnTo>
                          <a:pt x="15" y="22"/>
                        </a:lnTo>
                        <a:lnTo>
                          <a:pt x="17" y="12"/>
                        </a:lnTo>
                        <a:lnTo>
                          <a:pt x="17" y="12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044960" y="2366280"/>
                    <a:ext cx="10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7" y="0"/>
                        </a:moveTo>
                        <a:lnTo>
                          <a:pt x="7" y="12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033800" y="1987200"/>
                    <a:ext cx="331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8">
                        <a:moveTo>
                          <a:pt x="21" y="14"/>
                        </a:moveTo>
                        <a:lnTo>
                          <a:pt x="17" y="4"/>
                        </a:lnTo>
                        <a:lnTo>
                          <a:pt x="9" y="0"/>
                        </a:lnTo>
                        <a:lnTo>
                          <a:pt x="2" y="4"/>
                        </a:lnTo>
                        <a:lnTo>
                          <a:pt x="0" y="16"/>
                        </a:lnTo>
                        <a:lnTo>
                          <a:pt x="5" y="26"/>
                        </a:lnTo>
                        <a:lnTo>
                          <a:pt x="12" y="28"/>
                        </a:lnTo>
                        <a:lnTo>
                          <a:pt x="19" y="24"/>
                        </a:lnTo>
                        <a:lnTo>
                          <a:pt x="21" y="14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037040" y="199332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7" y="10"/>
                        </a:moveTo>
                        <a:lnTo>
                          <a:pt x="12" y="3"/>
                        </a:lnTo>
                        <a:lnTo>
                          <a:pt x="7" y="0"/>
                        </a:lnTo>
                        <a:lnTo>
                          <a:pt x="3" y="3"/>
                        </a:lnTo>
                        <a:lnTo>
                          <a:pt x="0" y="10"/>
                        </a:lnTo>
                        <a:lnTo>
                          <a:pt x="3" y="17"/>
                        </a:lnTo>
                        <a:lnTo>
                          <a:pt x="10" y="20"/>
                        </a:lnTo>
                        <a:lnTo>
                          <a:pt x="15" y="17"/>
                        </a:lnTo>
                        <a:lnTo>
                          <a:pt x="17" y="10"/>
                        </a:lnTo>
                        <a:lnTo>
                          <a:pt x="17" y="10"/>
                        </a:ln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041720" y="200592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0" y="7"/>
                        </a:moveTo>
                        <a:lnTo>
                          <a:pt x="4" y="0"/>
                        </a:lnTo>
                        <a:lnTo>
                          <a:pt x="7" y="2"/>
                        </a:lnTo>
                        <a:lnTo>
                          <a:pt x="2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V="1">
                    <a:off x="4047840" y="1968120"/>
                    <a:ext cx="1800" cy="13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033800" y="1971000"/>
                    <a:ext cx="79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5"/>
                        </a:moveTo>
                        <a:lnTo>
                          <a:pt x="5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4063680" y="1922040"/>
                    <a:ext cx="571680" cy="890280"/>
                    <a:chOff x="4063680" y="1922040"/>
                    <a:chExt cx="571680" cy="89028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357440" y="1922040"/>
                      <a:ext cx="277920" cy="89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561">
                          <a:moveTo>
                            <a:pt x="0" y="34"/>
                          </a:moveTo>
                          <a:lnTo>
                            <a:pt x="175" y="0"/>
                          </a:lnTo>
                          <a:lnTo>
                            <a:pt x="175" y="431"/>
                          </a:lnTo>
                          <a:lnTo>
                            <a:pt x="0" y="561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66cc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063680" y="1951560"/>
                      <a:ext cx="293760" cy="86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542">
                          <a:moveTo>
                            <a:pt x="0" y="498"/>
                          </a:moveTo>
                          <a:lnTo>
                            <a:pt x="0" y="58"/>
                          </a:lnTo>
                          <a:lnTo>
                            <a:pt x="2" y="55"/>
                          </a:lnTo>
                          <a:lnTo>
                            <a:pt x="2" y="38"/>
                          </a:lnTo>
                          <a:lnTo>
                            <a:pt x="0" y="38"/>
                          </a:lnTo>
                          <a:lnTo>
                            <a:pt x="0" y="0"/>
                          </a:lnTo>
                          <a:lnTo>
                            <a:pt x="185" y="15"/>
                          </a:lnTo>
                          <a:lnTo>
                            <a:pt x="185" y="542"/>
                          </a:lnTo>
                          <a:lnTo>
                            <a:pt x="0" y="498"/>
                          </a:lnTo>
                          <a:close/>
                        </a:path>
                      </a:pathLst>
                    </a:custGeom>
                    <a:solidFill>
                      <a:srgbClr val="0066cc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0" name=""/>
                  <p:cNvSpPr/>
                  <p:nvPr/>
                </p:nvSpPr>
                <p:spPr>
                  <a:xfrm>
                    <a:off x="4140000" y="2025000"/>
                    <a:ext cx="136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6">
                        <a:moveTo>
                          <a:pt x="0" y="0"/>
                        </a:moveTo>
                        <a:lnTo>
                          <a:pt x="86" y="9"/>
                        </a:lnTo>
                        <a:lnTo>
                          <a:pt x="86" y="16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287600" y="2039400"/>
                    <a:ext cx="7920" cy="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306680" y="1956960"/>
                    <a:ext cx="84240" cy="831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4">
                        <a:moveTo>
                          <a:pt x="0" y="0"/>
                        </a:moveTo>
                        <a:lnTo>
                          <a:pt x="48" y="4"/>
                        </a:lnTo>
                        <a:lnTo>
                          <a:pt x="53" y="9"/>
                        </a:lnTo>
                        <a:lnTo>
                          <a:pt x="53" y="524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306680" y="1933200"/>
                    <a:ext cx="1800" cy="23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063680" y="2115720"/>
                    <a:ext cx="327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2">
                        <a:moveTo>
                          <a:pt x="0" y="0"/>
                        </a:moveTo>
                        <a:lnTo>
                          <a:pt x="185" y="22"/>
                        </a:lnTo>
                        <a:lnTo>
                          <a:pt x="206" y="1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063680" y="2252160"/>
                    <a:ext cx="327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2">
                        <a:moveTo>
                          <a:pt x="0" y="0"/>
                        </a:moveTo>
                        <a:lnTo>
                          <a:pt x="185" y="22"/>
                        </a:lnTo>
                        <a:lnTo>
                          <a:pt x="206" y="12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066920" y="2576160"/>
                    <a:ext cx="285840" cy="45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066920" y="2584080"/>
                    <a:ext cx="285840" cy="45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066920" y="2592000"/>
                    <a:ext cx="285840" cy="48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066920" y="2598120"/>
                    <a:ext cx="285840" cy="50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066920" y="2606040"/>
                    <a:ext cx="285840" cy="48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066920" y="2611080"/>
                    <a:ext cx="285840" cy="51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066920" y="261720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066920" y="262512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066920" y="263304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066920" y="264096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066920" y="264888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066920" y="265536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066920" y="2660040"/>
                    <a:ext cx="285840" cy="60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066920" y="267120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066920" y="2674440"/>
                    <a:ext cx="285840" cy="61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066920" y="2682360"/>
                    <a:ext cx="285840" cy="64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066920" y="2690280"/>
                    <a:ext cx="285840" cy="64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066920" y="2698200"/>
                    <a:ext cx="285840" cy="63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066920" y="2706120"/>
                    <a:ext cx="285840" cy="63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063680" y="2012400"/>
                    <a:ext cx="2937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20">
                        <a:moveTo>
                          <a:pt x="0" y="0"/>
                        </a:moveTo>
                        <a:lnTo>
                          <a:pt x="180" y="20"/>
                        </a:lnTo>
                        <a:lnTo>
                          <a:pt x="185" y="1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063680" y="2039400"/>
                    <a:ext cx="293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9">
                        <a:moveTo>
                          <a:pt x="182" y="19"/>
                        </a:moveTo>
                        <a:lnTo>
                          <a:pt x="185" y="17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182" y="1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333680" y="1968120"/>
                    <a:ext cx="42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0">
                        <a:moveTo>
                          <a:pt x="27" y="0"/>
                        </a:moveTo>
                        <a:lnTo>
                          <a:pt x="1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025880" y="1884240"/>
                    <a:ext cx="5904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36">
                        <a:moveTo>
                          <a:pt x="0" y="26"/>
                        </a:moveTo>
                        <a:lnTo>
                          <a:pt x="177" y="36"/>
                        </a:lnTo>
                        <a:lnTo>
                          <a:pt x="372" y="10"/>
                        </a:lnTo>
                        <a:lnTo>
                          <a:pt x="223" y="0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4295520" y="1902960"/>
                    <a:ext cx="244440" cy="34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4276440" y="1899720"/>
                    <a:ext cx="23652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4254480" y="1899720"/>
                    <a:ext cx="23472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4235400" y="1899720"/>
                    <a:ext cx="2318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211640" y="1894680"/>
                    <a:ext cx="233280" cy="37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189320" y="1895040"/>
                    <a:ext cx="231840" cy="34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159080" y="1891800"/>
                    <a:ext cx="247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4132080" y="1891800"/>
                    <a:ext cx="2556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4105080" y="1891800"/>
                    <a:ext cx="26676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4584600" y="1910520"/>
                    <a:ext cx="31680" cy="7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074840" y="2271240"/>
                    <a:ext cx="158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3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090680" y="2275920"/>
                    <a:ext cx="3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2" y="5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086000" y="226800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3714840" y="1601280"/>
                  <a:ext cx="1172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cess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68360" y="3779640"/>
              <a:ext cx="2230560" cy="1211040"/>
              <a:chOff x="468360" y="3779640"/>
              <a:chExt cx="2230560" cy="121104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1389240" y="4160520"/>
                <a:ext cx="1309680" cy="48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68360" y="3779640"/>
                <a:ext cx="1172880" cy="1211040"/>
                <a:chOff x="468360" y="3779640"/>
                <a:chExt cx="1172880" cy="12110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779400" y="4062600"/>
                  <a:ext cx="609480" cy="928080"/>
                  <a:chOff x="779400" y="4062600"/>
                  <a:chExt cx="609480" cy="9280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779400" y="4078080"/>
                    <a:ext cx="5904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517">
                        <a:moveTo>
                          <a:pt x="177" y="36"/>
                        </a:moveTo>
                        <a:lnTo>
                          <a:pt x="352" y="12"/>
                        </a:lnTo>
                        <a:lnTo>
                          <a:pt x="372" y="14"/>
                        </a:lnTo>
                        <a:lnTo>
                          <a:pt x="372" y="0"/>
                        </a:lnTo>
                        <a:lnTo>
                          <a:pt x="177" y="26"/>
                        </a:lnTo>
                        <a:lnTo>
                          <a:pt x="0" y="16"/>
                        </a:lnTo>
                        <a:lnTo>
                          <a:pt x="0" y="512"/>
                        </a:lnTo>
                        <a:lnTo>
                          <a:pt x="24" y="517"/>
                        </a:lnTo>
                        <a:lnTo>
                          <a:pt x="24" y="91"/>
                        </a:lnTo>
                        <a:lnTo>
                          <a:pt x="26" y="88"/>
                        </a:lnTo>
                        <a:lnTo>
                          <a:pt x="26" y="71"/>
                        </a:lnTo>
                        <a:lnTo>
                          <a:pt x="24" y="71"/>
                        </a:lnTo>
                        <a:lnTo>
                          <a:pt x="24" y="33"/>
                        </a:lnTo>
                        <a:lnTo>
                          <a:pt x="53" y="26"/>
                        </a:lnTo>
                        <a:lnTo>
                          <a:pt x="177" y="36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200" y="4097160"/>
                    <a:ext cx="5716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185" y="36"/>
                        </a:moveTo>
                        <a:lnTo>
                          <a:pt x="0" y="21"/>
                        </a:lnTo>
                        <a:lnTo>
                          <a:pt x="29" y="14"/>
                        </a:lnTo>
                        <a:lnTo>
                          <a:pt x="153" y="24"/>
                        </a:lnTo>
                        <a:lnTo>
                          <a:pt x="328" y="0"/>
                        </a:lnTo>
                        <a:lnTo>
                          <a:pt x="360" y="2"/>
                        </a:lnTo>
                        <a:lnTo>
                          <a:pt x="185" y="36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>
                    <a:off x="1155240" y="4628880"/>
                    <a:ext cx="220680" cy="136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1155240" y="4644720"/>
                    <a:ext cx="220680" cy="136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>
                    <a:off x="1155240" y="4655880"/>
                    <a:ext cx="220680" cy="139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1155240" y="4670280"/>
                    <a:ext cx="220680" cy="144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1155240" y="4682880"/>
                    <a:ext cx="220680" cy="1472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1155240" y="4697280"/>
                    <a:ext cx="220680" cy="14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1155600" y="4708440"/>
                    <a:ext cx="225360" cy="15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>
                    <a:off x="1155240" y="4724280"/>
                    <a:ext cx="220680" cy="1551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1155600" y="4738320"/>
                    <a:ext cx="225360" cy="156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1155240" y="4754520"/>
                    <a:ext cx="220680" cy="1551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95240" y="4119480"/>
                    <a:ext cx="190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0" y="0"/>
                        </a:moveTo>
                        <a:lnTo>
                          <a:pt x="12" y="2"/>
                        </a:lnTo>
                        <a:lnTo>
                          <a:pt x="12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324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350720" y="4803480"/>
                    <a:ext cx="190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4" y="5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2" y="7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350720" y="4770360"/>
                    <a:ext cx="223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1">
                        <a:moveTo>
                          <a:pt x="0" y="31"/>
                        </a:moveTo>
                        <a:lnTo>
                          <a:pt x="0" y="2"/>
                        </a:lnTo>
                        <a:lnTo>
                          <a:pt x="14" y="0"/>
                        </a:lnTo>
                        <a:lnTo>
                          <a:pt x="14" y="26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350720" y="4762440"/>
                    <a:ext cx="190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5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9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179360" y="4929120"/>
                    <a:ext cx="27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0" y="12"/>
                        </a:move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179360" y="4887720"/>
                    <a:ext cx="27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0" y="38"/>
                        </a:moveTo>
                        <a:lnTo>
                          <a:pt x="0" y="5"/>
                        </a:lnTo>
                        <a:lnTo>
                          <a:pt x="17" y="0"/>
                        </a:lnTo>
                        <a:lnTo>
                          <a:pt x="17" y="31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179360" y="4876560"/>
                    <a:ext cx="270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">
                        <a:moveTo>
                          <a:pt x="0" y="12"/>
                        </a:moveTo>
                        <a:lnTo>
                          <a:pt x="2" y="9"/>
                        </a:lnTo>
                        <a:lnTo>
                          <a:pt x="7" y="7"/>
                        </a:lnTo>
                        <a:lnTo>
                          <a:pt x="14" y="2"/>
                        </a:lnTo>
                        <a:lnTo>
                          <a:pt x="17" y="0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90560" y="4487760"/>
                    <a:ext cx="26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10"/>
                        </a:moveTo>
                        <a:lnTo>
                          <a:pt x="15" y="3"/>
                        </a:lnTo>
                        <a:lnTo>
                          <a:pt x="7" y="0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3" y="22"/>
                        </a:lnTo>
                        <a:lnTo>
                          <a:pt x="10" y="24"/>
                        </a:lnTo>
                        <a:lnTo>
                          <a:pt x="15" y="20"/>
                        </a:lnTo>
                        <a:lnTo>
                          <a:pt x="17" y="10"/>
                        </a:lnTo>
                        <a:lnTo>
                          <a:pt x="17" y="10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98480" y="4495680"/>
                    <a:ext cx="10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7" y="7"/>
                        </a:moveTo>
                        <a:lnTo>
                          <a:pt x="7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7" y="10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blipFill rotWithShape="0">
                    <a:blip r:embed="rId31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95240" y="4506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3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2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90560" y="4536720"/>
                    <a:ext cx="266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12"/>
                        </a:moveTo>
                        <a:lnTo>
                          <a:pt x="15" y="3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0" y="15"/>
                        </a:lnTo>
                        <a:lnTo>
                          <a:pt x="3" y="22"/>
                        </a:lnTo>
                        <a:lnTo>
                          <a:pt x="10" y="24"/>
                        </a:lnTo>
                        <a:lnTo>
                          <a:pt x="15" y="22"/>
                        </a:lnTo>
                        <a:lnTo>
                          <a:pt x="17" y="12"/>
                        </a:lnTo>
                        <a:lnTo>
                          <a:pt x="17" y="12"/>
                        </a:lnTo>
                        <a:close/>
                      </a:path>
                    </a:pathLst>
                  </a:custGeom>
                  <a:blipFill rotWithShape="0">
                    <a:blip r:embed="rId33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98480" y="4544640"/>
                    <a:ext cx="10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7" y="0"/>
                        </a:moveTo>
                        <a:lnTo>
                          <a:pt x="7" y="12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87320" y="4165560"/>
                    <a:ext cx="331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8">
                        <a:moveTo>
                          <a:pt x="21" y="14"/>
                        </a:moveTo>
                        <a:lnTo>
                          <a:pt x="17" y="4"/>
                        </a:lnTo>
                        <a:lnTo>
                          <a:pt x="9" y="0"/>
                        </a:lnTo>
                        <a:lnTo>
                          <a:pt x="2" y="4"/>
                        </a:lnTo>
                        <a:lnTo>
                          <a:pt x="0" y="16"/>
                        </a:lnTo>
                        <a:lnTo>
                          <a:pt x="5" y="26"/>
                        </a:lnTo>
                        <a:lnTo>
                          <a:pt x="12" y="28"/>
                        </a:lnTo>
                        <a:lnTo>
                          <a:pt x="19" y="24"/>
                        </a:lnTo>
                        <a:lnTo>
                          <a:pt x="21" y="14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90560" y="417168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7" y="10"/>
                        </a:moveTo>
                        <a:lnTo>
                          <a:pt x="12" y="3"/>
                        </a:lnTo>
                        <a:lnTo>
                          <a:pt x="7" y="0"/>
                        </a:lnTo>
                        <a:lnTo>
                          <a:pt x="3" y="3"/>
                        </a:lnTo>
                        <a:lnTo>
                          <a:pt x="0" y="10"/>
                        </a:lnTo>
                        <a:lnTo>
                          <a:pt x="3" y="17"/>
                        </a:lnTo>
                        <a:lnTo>
                          <a:pt x="10" y="20"/>
                        </a:lnTo>
                        <a:lnTo>
                          <a:pt x="15" y="17"/>
                        </a:lnTo>
                        <a:lnTo>
                          <a:pt x="17" y="10"/>
                        </a:lnTo>
                        <a:lnTo>
                          <a:pt x="17" y="10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95240" y="4184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0" y="7"/>
                        </a:moveTo>
                        <a:lnTo>
                          <a:pt x="4" y="0"/>
                        </a:lnTo>
                        <a:lnTo>
                          <a:pt x="7" y="2"/>
                        </a:lnTo>
                        <a:lnTo>
                          <a:pt x="2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801360" y="4146480"/>
                    <a:ext cx="1800" cy="13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87320" y="4149360"/>
                    <a:ext cx="79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5"/>
                        </a:moveTo>
                        <a:lnTo>
                          <a:pt x="5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817200" y="4100400"/>
                    <a:ext cx="571680" cy="890280"/>
                    <a:chOff x="817200" y="4100400"/>
                    <a:chExt cx="571680" cy="8902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1110960" y="4100400"/>
                      <a:ext cx="277920" cy="89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561">
                          <a:moveTo>
                            <a:pt x="0" y="34"/>
                          </a:moveTo>
                          <a:lnTo>
                            <a:pt x="175" y="0"/>
                          </a:lnTo>
                          <a:lnTo>
                            <a:pt x="175" y="431"/>
                          </a:lnTo>
                          <a:lnTo>
                            <a:pt x="0" y="561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66cc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17200" y="4129920"/>
                      <a:ext cx="293760" cy="86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542">
                          <a:moveTo>
                            <a:pt x="0" y="498"/>
                          </a:moveTo>
                          <a:lnTo>
                            <a:pt x="0" y="58"/>
                          </a:lnTo>
                          <a:lnTo>
                            <a:pt x="2" y="55"/>
                          </a:lnTo>
                          <a:lnTo>
                            <a:pt x="2" y="38"/>
                          </a:lnTo>
                          <a:lnTo>
                            <a:pt x="0" y="38"/>
                          </a:lnTo>
                          <a:lnTo>
                            <a:pt x="0" y="0"/>
                          </a:lnTo>
                          <a:lnTo>
                            <a:pt x="185" y="15"/>
                          </a:lnTo>
                          <a:lnTo>
                            <a:pt x="185" y="542"/>
                          </a:lnTo>
                          <a:lnTo>
                            <a:pt x="0" y="498"/>
                          </a:lnTo>
                          <a:close/>
                        </a:path>
                      </a:pathLst>
                    </a:custGeom>
                    <a:solidFill>
                      <a:srgbClr val="0066cc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9" name=""/>
                  <p:cNvSpPr/>
                  <p:nvPr/>
                </p:nvSpPr>
                <p:spPr>
                  <a:xfrm>
                    <a:off x="893520" y="4203360"/>
                    <a:ext cx="136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6">
                        <a:moveTo>
                          <a:pt x="0" y="0"/>
                        </a:moveTo>
                        <a:lnTo>
                          <a:pt x="86" y="9"/>
                        </a:lnTo>
                        <a:lnTo>
                          <a:pt x="86" y="16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041120" y="4217760"/>
                    <a:ext cx="7920" cy="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1060200" y="4135320"/>
                    <a:ext cx="84240" cy="831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24">
                        <a:moveTo>
                          <a:pt x="0" y="0"/>
                        </a:moveTo>
                        <a:lnTo>
                          <a:pt x="48" y="4"/>
                        </a:lnTo>
                        <a:lnTo>
                          <a:pt x="53" y="9"/>
                        </a:lnTo>
                        <a:lnTo>
                          <a:pt x="53" y="524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060200" y="4111560"/>
                    <a:ext cx="1800" cy="23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817200" y="4294080"/>
                    <a:ext cx="327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2">
                        <a:moveTo>
                          <a:pt x="0" y="0"/>
                        </a:moveTo>
                        <a:lnTo>
                          <a:pt x="185" y="22"/>
                        </a:lnTo>
                        <a:lnTo>
                          <a:pt x="206" y="1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17200" y="4430520"/>
                    <a:ext cx="327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2">
                        <a:moveTo>
                          <a:pt x="0" y="0"/>
                        </a:moveTo>
                        <a:lnTo>
                          <a:pt x="185" y="22"/>
                        </a:lnTo>
                        <a:lnTo>
                          <a:pt x="206" y="12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820440" y="4754520"/>
                    <a:ext cx="285840" cy="45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820440" y="4762440"/>
                    <a:ext cx="285840" cy="45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820440" y="4770360"/>
                    <a:ext cx="285840" cy="48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820440" y="4776480"/>
                    <a:ext cx="285840" cy="50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20440" y="4784400"/>
                    <a:ext cx="285840" cy="48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820440" y="4789440"/>
                    <a:ext cx="285840" cy="51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820440" y="479556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20440" y="480348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20440" y="4811400"/>
                    <a:ext cx="285840" cy="53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20440" y="481932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20440" y="482724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820440" y="483372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20440" y="4838400"/>
                    <a:ext cx="285840" cy="60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20440" y="4849560"/>
                    <a:ext cx="285840" cy="568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820440" y="4852800"/>
                    <a:ext cx="285840" cy="61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20440" y="4860720"/>
                    <a:ext cx="285840" cy="64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20440" y="4868640"/>
                    <a:ext cx="285840" cy="64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820440" y="4876560"/>
                    <a:ext cx="285840" cy="63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20440" y="4884480"/>
                    <a:ext cx="285840" cy="630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817200" y="4190760"/>
                    <a:ext cx="2937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20">
                        <a:moveTo>
                          <a:pt x="0" y="0"/>
                        </a:moveTo>
                        <a:lnTo>
                          <a:pt x="180" y="20"/>
                        </a:lnTo>
                        <a:lnTo>
                          <a:pt x="185" y="1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817200" y="4217760"/>
                    <a:ext cx="293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9">
                        <a:moveTo>
                          <a:pt x="182" y="19"/>
                        </a:moveTo>
                        <a:lnTo>
                          <a:pt x="185" y="17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182" y="1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087200" y="4146480"/>
                    <a:ext cx="42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0">
                        <a:moveTo>
                          <a:pt x="27" y="0"/>
                        </a:moveTo>
                        <a:lnTo>
                          <a:pt x="1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79400" y="4062600"/>
                    <a:ext cx="5904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36">
                        <a:moveTo>
                          <a:pt x="0" y="26"/>
                        </a:moveTo>
                        <a:lnTo>
                          <a:pt x="177" y="36"/>
                        </a:lnTo>
                        <a:lnTo>
                          <a:pt x="372" y="10"/>
                        </a:lnTo>
                        <a:lnTo>
                          <a:pt x="223" y="0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1049040" y="4081320"/>
                    <a:ext cx="244440" cy="34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1029960" y="4078080"/>
                    <a:ext cx="23652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1008000" y="4078080"/>
                    <a:ext cx="23472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V="1">
                    <a:off x="988920" y="4078080"/>
                    <a:ext cx="2318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>
                    <a:off x="965160" y="4073040"/>
                    <a:ext cx="233280" cy="37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V="1">
                    <a:off x="942840" y="4073400"/>
                    <a:ext cx="231840" cy="34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>
                    <a:off x="912600" y="4070160"/>
                    <a:ext cx="247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885600" y="4070160"/>
                    <a:ext cx="2556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858600" y="4070160"/>
                    <a:ext cx="26676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1338120" y="4088880"/>
                    <a:ext cx="31680" cy="75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28360" y="4449600"/>
                    <a:ext cx="158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3"/>
                        </a:move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8"/>
                        </a:lnTo>
                        <a:lnTo>
                          <a:pt x="3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44200" y="4454280"/>
                    <a:ext cx="3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2" y="5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839520" y="444636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468360" y="3779640"/>
                  <a:ext cx="1172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cess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2" name=""/>
          <p:cNvGrpSpPr/>
          <p:nvPr/>
        </p:nvGrpSpPr>
        <p:grpSpPr>
          <a:xfrm>
            <a:off x="5421240" y="1774440"/>
            <a:ext cx="836640" cy="1403640"/>
            <a:chOff x="5421240" y="1774440"/>
            <a:chExt cx="836640" cy="1403640"/>
          </a:xfrm>
        </p:grpSpPr>
        <p:sp>
          <p:nvSpPr>
            <p:cNvPr id="353" name=""/>
            <p:cNvSpPr/>
            <p:nvPr/>
          </p:nvSpPr>
          <p:spPr>
            <a:xfrm flipH="1">
              <a:off x="5805000" y="2817720"/>
              <a:ext cx="2811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421240" y="1774440"/>
              <a:ext cx="836640" cy="1073160"/>
              <a:chOff x="5421240" y="1774440"/>
              <a:chExt cx="836640" cy="10731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5421240" y="2035080"/>
                <a:ext cx="836640" cy="812520"/>
                <a:chOff x="5421240" y="2035080"/>
                <a:chExt cx="836640" cy="8125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421240" y="2035080"/>
                  <a:ext cx="831960" cy="812520"/>
                </a:xfrm>
                <a:custGeom>
                  <a:avLst/>
                  <a:gdLst/>
                  <a:ahLst/>
                  <a:rect l="l" t="t" r="r" b="b"/>
                  <a:pathLst>
                    <a:path w="436" h="424">
                      <a:moveTo>
                        <a:pt x="0" y="323"/>
                      </a:moveTo>
                      <a:lnTo>
                        <a:pt x="79" y="323"/>
                      </a:lnTo>
                      <a:lnTo>
                        <a:pt x="149" y="340"/>
                      </a:lnTo>
                      <a:lnTo>
                        <a:pt x="149" y="348"/>
                      </a:lnTo>
                      <a:lnTo>
                        <a:pt x="79" y="348"/>
                      </a:lnTo>
                      <a:lnTo>
                        <a:pt x="79" y="365"/>
                      </a:lnTo>
                      <a:lnTo>
                        <a:pt x="27" y="365"/>
                      </a:lnTo>
                      <a:lnTo>
                        <a:pt x="27" y="424"/>
                      </a:lnTo>
                      <a:lnTo>
                        <a:pt x="410" y="424"/>
                      </a:lnTo>
                      <a:lnTo>
                        <a:pt x="410" y="365"/>
                      </a:lnTo>
                      <a:lnTo>
                        <a:pt x="349" y="365"/>
                      </a:lnTo>
                      <a:lnTo>
                        <a:pt x="349" y="348"/>
                      </a:lnTo>
                      <a:lnTo>
                        <a:pt x="288" y="348"/>
                      </a:lnTo>
                      <a:lnTo>
                        <a:pt x="288" y="340"/>
                      </a:lnTo>
                      <a:lnTo>
                        <a:pt x="349" y="323"/>
                      </a:lnTo>
                      <a:lnTo>
                        <a:pt x="436" y="323"/>
                      </a:lnTo>
                      <a:lnTo>
                        <a:pt x="436" y="0"/>
                      </a:lnTo>
                      <a:lnTo>
                        <a:pt x="0" y="0"/>
                      </a:lnTo>
                      <a:lnTo>
                        <a:pt x="0" y="3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72080" y="2734920"/>
                  <a:ext cx="514440" cy="1800"/>
                </a:xfrm>
                <a:custGeom>
                  <a:avLst/>
                  <a:gdLst/>
                  <a:ahLst/>
                  <a:rect l="l" t="t" r="r" b="b"/>
                  <a:pathLst>
                    <a:path w="270" h="0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05640" y="2701800"/>
                  <a:ext cx="264960" cy="1440"/>
                </a:xfrm>
                <a:custGeom>
                  <a:avLst/>
                  <a:gdLst/>
                  <a:ahLst/>
                  <a:rect l="l" t="t" r="r" b="b"/>
                  <a:pathLst>
                    <a:path w="139" h="0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705640" y="2687400"/>
                  <a:ext cx="264960" cy="1440"/>
                </a:xfrm>
                <a:custGeom>
                  <a:avLst/>
                  <a:gdLst/>
                  <a:ahLst/>
                  <a:rect l="l" t="t" r="r" b="b"/>
                  <a:pathLst>
                    <a:path w="139" h="0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572080" y="2653920"/>
                  <a:ext cx="514440" cy="1800"/>
                </a:xfrm>
                <a:custGeom>
                  <a:avLst/>
                  <a:gdLst/>
                  <a:ahLst/>
                  <a:rect l="l" t="t" r="r" b="b"/>
                  <a:pathLst>
                    <a:path w="270" h="0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54800" y="2752560"/>
                  <a:ext cx="115920" cy="14400"/>
                </a:xfrm>
                <a:prstGeom prst="rect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488200" y="2800080"/>
                  <a:ext cx="48960" cy="4752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9" y="25"/>
                      </a:moveTo>
                      <a:lnTo>
                        <a:pt x="26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54800" y="2817720"/>
                  <a:ext cx="115920" cy="140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2000" y="2752560"/>
                  <a:ext cx="731880" cy="1440"/>
                </a:xfrm>
                <a:custGeom>
                  <a:avLst/>
                  <a:gdLst/>
                  <a:ahLst/>
                  <a:rect l="l" t="t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472000" y="2766960"/>
                  <a:ext cx="731880" cy="1440"/>
                </a:xfrm>
                <a:custGeom>
                  <a:avLst/>
                  <a:gdLst/>
                  <a:ahLst/>
                  <a:rect l="l" t="t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54800" y="278424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38680" y="278424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70720" y="28177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21480" y="278424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754600" y="281772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788080" y="278424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2" name="" descr=""/>
                <p:cNvPicPr/>
                <p:nvPr/>
              </p:nvPicPr>
              <p:blipFill>
                <a:blip r:embed="rId39">
                  <a:lum bright="10000"/>
                </a:blip>
                <a:stretch/>
              </p:blipFill>
              <p:spPr>
                <a:xfrm>
                  <a:off x="5472000" y="2090520"/>
                  <a:ext cx="78588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"/>
                <p:cNvSpPr/>
                <p:nvPr/>
              </p:nvSpPr>
              <p:spPr>
                <a:xfrm>
                  <a:off x="5448240" y="2090520"/>
                  <a:ext cx="785880" cy="547560"/>
                </a:xfrm>
                <a:prstGeom prst="rect">
                  <a:avLst/>
                </a:prstGeom>
                <a:noFill/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5499000" y="17744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911160" y="2393640"/>
            <a:ext cx="1758960" cy="1295640"/>
            <a:chOff x="911160" y="2393640"/>
            <a:chExt cx="1758960" cy="1295640"/>
          </a:xfrm>
        </p:grpSpPr>
        <p:sp>
          <p:nvSpPr>
            <p:cNvPr id="376" name=""/>
            <p:cNvSpPr/>
            <p:nvPr/>
          </p:nvSpPr>
          <p:spPr>
            <a:xfrm>
              <a:off x="1693800" y="3419640"/>
              <a:ext cx="97632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911160" y="2393640"/>
              <a:ext cx="836640" cy="1073160"/>
              <a:chOff x="911160" y="2393640"/>
              <a:chExt cx="836640" cy="107316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911160" y="2654280"/>
                <a:ext cx="836640" cy="812520"/>
                <a:chOff x="911160" y="2654280"/>
                <a:chExt cx="836640" cy="8125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911160" y="2654280"/>
                  <a:ext cx="831960" cy="812520"/>
                </a:xfrm>
                <a:custGeom>
                  <a:avLst/>
                  <a:gdLst/>
                  <a:ahLst/>
                  <a:rect l="l" t="t" r="r" b="b"/>
                  <a:pathLst>
                    <a:path w="436" h="424">
                      <a:moveTo>
                        <a:pt x="0" y="323"/>
                      </a:moveTo>
                      <a:lnTo>
                        <a:pt x="79" y="323"/>
                      </a:lnTo>
                      <a:lnTo>
                        <a:pt x="149" y="340"/>
                      </a:lnTo>
                      <a:lnTo>
                        <a:pt x="149" y="348"/>
                      </a:lnTo>
                      <a:lnTo>
                        <a:pt x="79" y="348"/>
                      </a:lnTo>
                      <a:lnTo>
                        <a:pt x="79" y="365"/>
                      </a:lnTo>
                      <a:lnTo>
                        <a:pt x="27" y="365"/>
                      </a:lnTo>
                      <a:lnTo>
                        <a:pt x="27" y="424"/>
                      </a:lnTo>
                      <a:lnTo>
                        <a:pt x="410" y="424"/>
                      </a:lnTo>
                      <a:lnTo>
                        <a:pt x="410" y="365"/>
                      </a:lnTo>
                      <a:lnTo>
                        <a:pt x="349" y="365"/>
                      </a:lnTo>
                      <a:lnTo>
                        <a:pt x="349" y="348"/>
                      </a:lnTo>
                      <a:lnTo>
                        <a:pt x="288" y="348"/>
                      </a:lnTo>
                      <a:lnTo>
                        <a:pt x="288" y="340"/>
                      </a:lnTo>
                      <a:lnTo>
                        <a:pt x="349" y="323"/>
                      </a:lnTo>
                      <a:lnTo>
                        <a:pt x="436" y="323"/>
                      </a:lnTo>
                      <a:lnTo>
                        <a:pt x="436" y="0"/>
                      </a:lnTo>
                      <a:lnTo>
                        <a:pt x="0" y="0"/>
                      </a:lnTo>
                      <a:lnTo>
                        <a:pt x="0" y="3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62000" y="3354120"/>
                  <a:ext cx="514440" cy="1800"/>
                </a:xfrm>
                <a:custGeom>
                  <a:avLst/>
                  <a:gdLst/>
                  <a:ahLst/>
                  <a:rect l="l" t="t" r="r" b="b"/>
                  <a:pathLst>
                    <a:path w="270" h="0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95560" y="3321000"/>
                  <a:ext cx="264960" cy="1440"/>
                </a:xfrm>
                <a:custGeom>
                  <a:avLst/>
                  <a:gdLst/>
                  <a:ahLst/>
                  <a:rect l="l" t="t" r="r" b="b"/>
                  <a:pathLst>
                    <a:path w="139" h="0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95560" y="3306600"/>
                  <a:ext cx="264960" cy="1440"/>
                </a:xfrm>
                <a:custGeom>
                  <a:avLst/>
                  <a:gdLst/>
                  <a:ahLst/>
                  <a:rect l="l" t="t" r="r" b="b"/>
                  <a:pathLst>
                    <a:path w="139" h="0">
                      <a:moveTo>
                        <a:pt x="0" y="0"/>
                      </a:moveTo>
                      <a:lnTo>
                        <a:pt x="1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062000" y="3273120"/>
                  <a:ext cx="514440" cy="1800"/>
                </a:xfrm>
                <a:custGeom>
                  <a:avLst/>
                  <a:gdLst/>
                  <a:ahLst/>
                  <a:rect l="l" t="t" r="r" b="b"/>
                  <a:pathLst>
                    <a:path w="270" h="0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044720" y="3371760"/>
                  <a:ext cx="115920" cy="14400"/>
                </a:xfrm>
                <a:prstGeom prst="rect">
                  <a:avLst/>
                </a:prstGeom>
                <a:noFill/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78120" y="3419280"/>
                  <a:ext cx="48960" cy="4752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9" y="25"/>
                      </a:moveTo>
                      <a:lnTo>
                        <a:pt x="26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44720" y="3436920"/>
                  <a:ext cx="115920" cy="140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961920" y="3371760"/>
                  <a:ext cx="731880" cy="1440"/>
                </a:xfrm>
                <a:custGeom>
                  <a:avLst/>
                  <a:gdLst/>
                  <a:ahLst/>
                  <a:rect l="l" t="t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961920" y="3386160"/>
                  <a:ext cx="731880" cy="1440"/>
                </a:xfrm>
                <a:custGeom>
                  <a:avLst/>
                  <a:gdLst/>
                  <a:ahLst/>
                  <a:rect l="l" t="t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044720" y="340344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28600" y="340344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160640" y="3436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211400" y="340344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44520" y="343692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8" y="1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278000" y="340344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5" name="" descr=""/>
                <p:cNvPicPr/>
                <p:nvPr/>
              </p:nvPicPr>
              <p:blipFill>
                <a:blip r:embed="rId40">
                  <a:lum bright="10000"/>
                </a:blip>
                <a:stretch/>
              </p:blipFill>
              <p:spPr>
                <a:xfrm>
                  <a:off x="961920" y="2709720"/>
                  <a:ext cx="78588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938160" y="2709720"/>
                  <a:ext cx="785880" cy="547560"/>
                </a:xfrm>
                <a:prstGeom prst="rect">
                  <a:avLst/>
                </a:prstGeom>
                <a:noFill/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988920" y="23936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6264360" y="1947600"/>
            <a:ext cx="1444320" cy="1833480"/>
            <a:chOff x="6264360" y="1947600"/>
            <a:chExt cx="1444320" cy="1833480"/>
          </a:xfrm>
        </p:grpSpPr>
        <p:sp>
          <p:nvSpPr>
            <p:cNvPr id="399" name=""/>
            <p:cNvSpPr/>
            <p:nvPr/>
          </p:nvSpPr>
          <p:spPr>
            <a:xfrm flipV="1">
              <a:off x="6264360" y="3274920"/>
              <a:ext cx="753840" cy="50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470280" y="1947600"/>
              <a:ext cx="1238400" cy="1386720"/>
              <a:chOff x="6470280" y="1947600"/>
              <a:chExt cx="1238400" cy="138672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6708240" y="2252520"/>
                <a:ext cx="768240" cy="1081800"/>
                <a:chOff x="6708240" y="2252520"/>
                <a:chExt cx="768240" cy="108180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6797880" y="2316240"/>
                  <a:ext cx="678240" cy="1018080"/>
                  <a:chOff x="6797880" y="2316240"/>
                  <a:chExt cx="678240" cy="10180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6797880" y="2316240"/>
                    <a:ext cx="486360" cy="10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1272">
                        <a:moveTo>
                          <a:pt x="0" y="32"/>
                        </a:moveTo>
                        <a:lnTo>
                          <a:pt x="608" y="0"/>
                        </a:lnTo>
                        <a:lnTo>
                          <a:pt x="608" y="1272"/>
                        </a:lnTo>
                        <a:lnTo>
                          <a:pt x="0" y="1208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284240" y="2316240"/>
                    <a:ext cx="191880" cy="10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272">
                        <a:moveTo>
                          <a:pt x="0" y="0"/>
                        </a:moveTo>
                        <a:lnTo>
                          <a:pt x="240" y="56"/>
                        </a:lnTo>
                        <a:lnTo>
                          <a:pt x="240" y="1120"/>
                        </a:lnTo>
                        <a:lnTo>
                          <a:pt x="0" y="12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6797880" y="2348280"/>
                  <a:ext cx="678600" cy="38160"/>
                </a:xfrm>
                <a:custGeom>
                  <a:avLst/>
                  <a:gdLst/>
                  <a:ahLst/>
                  <a:rect l="l" t="t" r="r" b="b"/>
                  <a:pathLst>
                    <a:path w="848" h="48">
                      <a:moveTo>
                        <a:pt x="848" y="48"/>
                      </a:moveTo>
                      <a:lnTo>
                        <a:pt x="608" y="0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252200" y="2354760"/>
                  <a:ext cx="720" cy="9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816960" y="2373840"/>
                  <a:ext cx="720" cy="90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83280" y="2700720"/>
                  <a:ext cx="83160" cy="57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977160" y="2988720"/>
                  <a:ext cx="89640" cy="63720"/>
                </a:xfrm>
                <a:custGeom>
                  <a:avLst/>
                  <a:gdLst/>
                  <a:ahLst/>
                  <a:rect l="l" t="t" r="r" b="b"/>
                  <a:pathLst>
                    <a:path w="112" h="80">
                      <a:moveTo>
                        <a:pt x="0" y="0"/>
                      </a:moveTo>
                      <a:lnTo>
                        <a:pt x="112" y="8"/>
                      </a:lnTo>
                      <a:lnTo>
                        <a:pt x="112" y="80"/>
                      </a:lnTo>
                      <a:lnTo>
                        <a:pt x="0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83280" y="2995200"/>
                  <a:ext cx="76680" cy="51120"/>
                </a:xfrm>
                <a:custGeom>
                  <a:avLst/>
                  <a:gdLst/>
                  <a:ahLst/>
                  <a:rect l="l" t="t" r="r" b="b"/>
                  <a:pathLst>
                    <a:path w="96" h="64">
                      <a:moveTo>
                        <a:pt x="0" y="0"/>
                      </a:moveTo>
                      <a:lnTo>
                        <a:pt x="96" y="8"/>
                      </a:lnTo>
                      <a:lnTo>
                        <a:pt x="96" y="64"/>
                      </a:lnTo>
                      <a:lnTo>
                        <a:pt x="0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957720" y="3071880"/>
                  <a:ext cx="121320" cy="32040"/>
                </a:xfrm>
                <a:custGeom>
                  <a:avLst/>
                  <a:gdLst/>
                  <a:ahLst/>
                  <a:rect l="l" t="t" r="r" b="b"/>
                  <a:pathLst>
                    <a:path w="152" h="40">
                      <a:moveTo>
                        <a:pt x="0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57720" y="2777400"/>
                  <a:ext cx="121320" cy="19080"/>
                </a:xfrm>
                <a:custGeom>
                  <a:avLst/>
                  <a:gdLst/>
                  <a:ahLst/>
                  <a:rect l="l" t="t" r="r" b="b"/>
                  <a:pathLst>
                    <a:path w="152" h="24">
                      <a:moveTo>
                        <a:pt x="0" y="0"/>
                      </a:moveTo>
                      <a:lnTo>
                        <a:pt x="152" y="8"/>
                      </a:lnTo>
                      <a:lnTo>
                        <a:pt x="152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053840" y="2783880"/>
                  <a:ext cx="7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989760" y="2706840"/>
                  <a:ext cx="7020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060320" y="3084840"/>
                  <a:ext cx="7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201080" y="2322720"/>
                  <a:ext cx="12600" cy="25560"/>
                </a:xfrm>
                <a:custGeom>
                  <a:avLst/>
                  <a:gdLst>
                    <a:gd name="textAreaLeft" fmla="*/ 1800 w 12600"/>
                    <a:gd name="textAreaRight" fmla="*/ 10800 w 12600"/>
                    <a:gd name="textAreaTop" fmla="*/ 1800 h 25560"/>
                    <a:gd name="textAreaBottom" fmla="*/ 23760 h 25560"/>
                  </a:gdLst>
                  <a:ahLst/>
                  <a:rect l="textAreaLeft" t="textAreaTop" r="textAreaRight" b="textAreaBottom"/>
                  <a:pathLst>
                    <a:path w="21600" h="4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2400"/>
                      </a:lnTo>
                      <a:arcTo wR="10800" hR="10800" stAng="10800000" swAng="-5400000"/>
                      <a:lnTo>
                        <a:pt x="10800" y="4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01080" y="2322720"/>
                  <a:ext cx="19080" cy="31680"/>
                </a:xfrm>
                <a:custGeom>
                  <a:avLst/>
                  <a:gdLst>
                    <a:gd name="textAreaLeft" fmla="*/ 1800 w 19080"/>
                    <a:gd name="textAreaRight" fmla="*/ 17280 w 19080"/>
                    <a:gd name="textAreaTop" fmla="*/ 1800 h 31680"/>
                    <a:gd name="textAreaBottom" fmla="*/ 29880 h 31680"/>
                  </a:gdLst>
                  <a:ahLst/>
                  <a:rect l="textAreaLeft" t="textAreaTop" r="textAreaRight" b="textAreaBottom"/>
                  <a:pathLst>
                    <a:path w="21600" h="35600">
                      <a:moveTo>
                        <a:pt x="7200" y="0"/>
                      </a:moveTo>
                      <a:arcTo wR="7200" hR="7200" stAng="16200000" swAng="-5400000"/>
                      <a:lnTo>
                        <a:pt x="0" y="28400"/>
                      </a:lnTo>
                      <a:arcTo wR="7200" hR="7200" stAng="10800000" swAng="-5400000"/>
                      <a:lnTo>
                        <a:pt x="14400" y="35600"/>
                      </a:lnTo>
                      <a:arcTo wR="7200" hR="7200" stAng="5400000" swAng="-5400000"/>
                      <a:lnTo>
                        <a:pt x="21600" y="7200"/>
                      </a:lnTo>
                      <a:arcTo wR="7200" hR="72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201080" y="2322720"/>
                  <a:ext cx="12600" cy="25560"/>
                </a:xfrm>
                <a:custGeom>
                  <a:avLst/>
                  <a:gdLst>
                    <a:gd name="textAreaLeft" fmla="*/ 1800 w 12600"/>
                    <a:gd name="textAreaRight" fmla="*/ 10800 w 12600"/>
                    <a:gd name="textAreaTop" fmla="*/ 1800 h 25560"/>
                    <a:gd name="textAreaBottom" fmla="*/ 23760 h 25560"/>
                  </a:gdLst>
                  <a:ahLst/>
                  <a:rect l="textAreaLeft" t="textAreaTop" r="textAreaRight" b="textAreaBottom"/>
                  <a:pathLst>
                    <a:path w="21600" h="4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2400"/>
                      </a:lnTo>
                      <a:arcTo wR="10800" hR="10800" stAng="10800000" swAng="-5400000"/>
                      <a:lnTo>
                        <a:pt x="10800" y="4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01080" y="2322720"/>
                  <a:ext cx="19080" cy="31680"/>
                </a:xfrm>
                <a:custGeom>
                  <a:avLst/>
                  <a:gdLst>
                    <a:gd name="textAreaLeft" fmla="*/ 1800 w 19080"/>
                    <a:gd name="textAreaRight" fmla="*/ 17280 w 19080"/>
                    <a:gd name="textAreaTop" fmla="*/ 1800 h 31680"/>
                    <a:gd name="textAreaBottom" fmla="*/ 29880 h 31680"/>
                  </a:gdLst>
                  <a:ahLst/>
                  <a:rect l="textAreaLeft" t="textAreaTop" r="textAreaRight" b="textAreaBottom"/>
                  <a:pathLst>
                    <a:path w="21600" h="35600">
                      <a:moveTo>
                        <a:pt x="7200" y="0"/>
                      </a:moveTo>
                      <a:arcTo wR="7200" hR="7200" stAng="16200000" swAng="-5400000"/>
                      <a:lnTo>
                        <a:pt x="0" y="28400"/>
                      </a:lnTo>
                      <a:arcTo wR="7200" hR="7200" stAng="10800000" swAng="-5400000"/>
                      <a:lnTo>
                        <a:pt x="14400" y="35600"/>
                      </a:lnTo>
                      <a:arcTo wR="7200" hR="7200" stAng="5400000" swAng="-5400000"/>
                      <a:lnTo>
                        <a:pt x="21600" y="7200"/>
                      </a:lnTo>
                      <a:arcTo wR="7200" hR="72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83280" y="2412360"/>
                  <a:ext cx="8964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57720" y="2489400"/>
                  <a:ext cx="121320" cy="19080"/>
                </a:xfrm>
                <a:custGeom>
                  <a:avLst/>
                  <a:gdLst/>
                  <a:ahLst/>
                  <a:rect l="l" t="t" r="r" b="b"/>
                  <a:pathLst>
                    <a:path w="152" h="24">
                      <a:moveTo>
                        <a:pt x="0" y="24"/>
                      </a:moveTo>
                      <a:lnTo>
                        <a:pt x="152" y="24"/>
                      </a:lnTo>
                      <a:lnTo>
                        <a:pt x="152" y="0"/>
                      </a:lnTo>
                      <a:lnTo>
                        <a:pt x="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053840" y="2495520"/>
                  <a:ext cx="72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89760" y="2418840"/>
                  <a:ext cx="7020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16960" y="2354760"/>
                  <a:ext cx="435240" cy="275040"/>
                </a:xfrm>
                <a:custGeom>
                  <a:avLst/>
                  <a:gdLst/>
                  <a:ahLst/>
                  <a:rect l="l" t="t" r="r" b="b"/>
                  <a:pathLst>
                    <a:path w="544" h="344">
                      <a:moveTo>
                        <a:pt x="0" y="24"/>
                      </a:moveTo>
                      <a:lnTo>
                        <a:pt x="544" y="0"/>
                      </a:lnTo>
                      <a:lnTo>
                        <a:pt x="544" y="344"/>
                      </a:lnTo>
                      <a:lnTo>
                        <a:pt x="0" y="336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156440" y="2476440"/>
                  <a:ext cx="95760" cy="12816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lnTo>
                        <a:pt x="120" y="8"/>
                      </a:lnTo>
                      <a:lnTo>
                        <a:pt x="120" y="152"/>
                      </a:lnTo>
                      <a:lnTo>
                        <a:pt x="0" y="1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26640" y="2553480"/>
                  <a:ext cx="25560" cy="7668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0" y="80"/>
                      </a:lnTo>
                      <a:lnTo>
                        <a:pt x="32" y="9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56440" y="2444400"/>
                  <a:ext cx="95760" cy="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868080" y="2258640"/>
                  <a:ext cx="243360" cy="33264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32" y="416"/>
                      </a:moveTo>
                      <a:lnTo>
                        <a:pt x="48" y="272"/>
                      </a:lnTo>
                      <a:lnTo>
                        <a:pt x="32" y="128"/>
                      </a:lnTo>
                      <a:lnTo>
                        <a:pt x="0" y="48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84"/>
                      </a:lnTo>
                      <a:lnTo>
                        <a:pt x="32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855480" y="2252520"/>
                  <a:ext cx="243000" cy="33264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40" y="416"/>
                      </a:moveTo>
                      <a:lnTo>
                        <a:pt x="48" y="280"/>
                      </a:lnTo>
                      <a:lnTo>
                        <a:pt x="32" y="136"/>
                      </a:lnTo>
                      <a:lnTo>
                        <a:pt x="0" y="56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92"/>
                      </a:lnTo>
                      <a:lnTo>
                        <a:pt x="40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842520" y="2252520"/>
                  <a:ext cx="243360" cy="332640"/>
                </a:xfrm>
                <a:custGeom>
                  <a:avLst/>
                  <a:gdLst/>
                  <a:ahLst/>
                  <a:rect l="l" t="t" r="r" b="b"/>
                  <a:pathLst>
                    <a:path w="304" h="416">
                      <a:moveTo>
                        <a:pt x="32" y="416"/>
                      </a:moveTo>
                      <a:lnTo>
                        <a:pt x="48" y="280"/>
                      </a:lnTo>
                      <a:lnTo>
                        <a:pt x="32" y="136"/>
                      </a:lnTo>
                      <a:lnTo>
                        <a:pt x="0" y="56"/>
                      </a:lnTo>
                      <a:lnTo>
                        <a:pt x="272" y="0"/>
                      </a:lnTo>
                      <a:lnTo>
                        <a:pt x="304" y="96"/>
                      </a:lnTo>
                      <a:lnTo>
                        <a:pt x="304" y="192"/>
                      </a:lnTo>
                      <a:lnTo>
                        <a:pt x="304" y="392"/>
                      </a:lnTo>
                      <a:lnTo>
                        <a:pt x="32" y="4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6708240" y="2348280"/>
                  <a:ext cx="543960" cy="902520"/>
                  <a:chOff x="6708240" y="2348280"/>
                  <a:chExt cx="543960" cy="9025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816960" y="2655360"/>
                    <a:ext cx="43524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360">
                        <a:moveTo>
                          <a:pt x="0" y="0"/>
                        </a:moveTo>
                        <a:lnTo>
                          <a:pt x="544" y="0"/>
                        </a:lnTo>
                        <a:lnTo>
                          <a:pt x="544" y="360"/>
                        </a:lnTo>
                        <a:lnTo>
                          <a:pt x="0" y="3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816960" y="2943720"/>
                    <a:ext cx="4352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384">
                        <a:moveTo>
                          <a:pt x="0" y="0"/>
                        </a:moveTo>
                        <a:lnTo>
                          <a:pt x="544" y="40"/>
                        </a:lnTo>
                        <a:lnTo>
                          <a:pt x="544" y="384"/>
                        </a:lnTo>
                        <a:lnTo>
                          <a:pt x="0" y="3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708240" y="2348280"/>
                    <a:ext cx="44784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360">
                        <a:moveTo>
                          <a:pt x="0" y="32"/>
                        </a:moveTo>
                        <a:lnTo>
                          <a:pt x="560" y="0"/>
                        </a:lnTo>
                        <a:lnTo>
                          <a:pt x="560" y="360"/>
                        </a:lnTo>
                        <a:lnTo>
                          <a:pt x="0" y="36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99ff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7162560" y="2348280"/>
                  <a:ext cx="6120" cy="288000"/>
                </a:xfrm>
                <a:custGeom>
                  <a:avLst/>
                  <a:gdLst/>
                  <a:ahLst/>
                  <a:rect l="l" t="t" r="r" b="b"/>
                  <a:pathLst>
                    <a:path w="8" h="360">
                      <a:moveTo>
                        <a:pt x="0" y="0"/>
                      </a:moveTo>
                      <a:lnTo>
                        <a:pt x="8" y="24"/>
                      </a:lnTo>
                      <a:lnTo>
                        <a:pt x="8" y="352"/>
                      </a:lnTo>
                      <a:lnTo>
                        <a:pt x="0" y="3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829920" y="2476440"/>
                  <a:ext cx="146880" cy="19080"/>
                </a:xfrm>
                <a:custGeom>
                  <a:avLst/>
                  <a:gdLst/>
                  <a:ahLst/>
                  <a:rect l="l" t="t" r="r" b="b"/>
                  <a:pathLst>
                    <a:path w="184" h="24">
                      <a:moveTo>
                        <a:pt x="0" y="8"/>
                      </a:moveTo>
                      <a:lnTo>
                        <a:pt x="152" y="0"/>
                      </a:lnTo>
                      <a:lnTo>
                        <a:pt x="184" y="8"/>
                      </a:lnTo>
                      <a:lnTo>
                        <a:pt x="184" y="24"/>
                      </a:lnTo>
                      <a:lnTo>
                        <a:pt x="152" y="24"/>
                      </a:lnTo>
                      <a:lnTo>
                        <a:pt x="0" y="2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951600" y="2482920"/>
                  <a:ext cx="7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61960" y="2393280"/>
                  <a:ext cx="102240" cy="70200"/>
                </a:xfrm>
                <a:custGeom>
                  <a:avLst/>
                  <a:gdLst/>
                  <a:ahLst/>
                  <a:rect l="l" t="t" r="r" b="b"/>
                  <a:pathLst>
                    <a:path w="128" h="88">
                      <a:moveTo>
                        <a:pt x="0" y="8"/>
                      </a:moveTo>
                      <a:lnTo>
                        <a:pt x="128" y="0"/>
                      </a:lnTo>
                      <a:lnTo>
                        <a:pt x="128" y="80"/>
                      </a:lnTo>
                      <a:lnTo>
                        <a:pt x="0" y="8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868080" y="2399400"/>
                  <a:ext cx="89640" cy="64080"/>
                </a:xfrm>
                <a:custGeom>
                  <a:avLst/>
                  <a:gdLst/>
                  <a:ahLst/>
                  <a:rect l="l" t="t" r="r" b="b"/>
                  <a:pathLst>
                    <a:path w="112" h="80">
                      <a:moveTo>
                        <a:pt x="0" y="8"/>
                      </a:moveTo>
                      <a:lnTo>
                        <a:pt x="112" y="0"/>
                      </a:lnTo>
                      <a:lnTo>
                        <a:pt x="112" y="72"/>
                      </a:lnTo>
                      <a:lnTo>
                        <a:pt x="0" y="8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6470280" y="1947600"/>
                <a:ext cx="123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osito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FC15-578E-4B1A-AD7B-1D0110F24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 Rey</dc:creator>
  <dc:description/>
  <dc:language>en-US</dc:language>
  <cp:lastModifiedBy>Catherine A. Rey</cp:lastModifiedBy>
  <cp:lastPrinted>1999-07-27T15:46:00Z</cp:lastPrinted>
  <dcterms:modified xsi:type="dcterms:W3CDTF">1999-11-12T20:16:37Z</dcterms:modified>
  <cp:revision>436</cp:revision>
  <dc:subject/>
  <dc:title>Designing a Web Site Using DO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CNRI_HomePage\MAGI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